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1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88612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3"/>
          </p:nvPr>
        </p:nvSpPr>
        <p:spPr>
          <a:xfrm>
            <a:off x="3774600" y="9427680"/>
            <a:ext cx="288612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3F6F-080A-4805-A404-48C5C169F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BB40-F4DB-41AC-9C17-0F4B3A8F98B4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A9E9-28F2-41C7-BF93-E0A0E2E94C1A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0AD1-8915-45F5-A274-19D65AD5C541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087CBB-75CC-4D44-AC88-4218A53D1E03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FD35-EC1E-49EB-B0F0-D5ED859E31AA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23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E8ED-D114-405C-A5EA-409A5CFFE97E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19178"/>
                </a:solidFill>
                <a:latin typeface="Arial"/>
              </a:rPr>
              <a:t>11-12 June 2009, Brussel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7" name="Picture 27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8200" y="6400800"/>
            <a:ext cx="5824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47" name="Picture 2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457200" y="533520"/>
            <a:ext cx="4648320" cy="1620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6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D443-4AFE-4A0C-B3BA-64A336A688E1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49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50" name="Text Box 31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19178"/>
                </a:solidFill>
                <a:latin typeface="Arial"/>
              </a:rPr>
              <a:t>11-12 June 2009 ,Brussels 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grpSp>
        <p:nvGrpSpPr>
          <p:cNvPr id="51" name="Group 38"/>
          <p:cNvGrpSpPr/>
          <p:nvPr/>
        </p:nvGrpSpPr>
        <p:grpSpPr>
          <a:xfrm>
            <a:off x="6794640" y="1384200"/>
            <a:ext cx="2349360" cy="849600"/>
            <a:chOff x="6794640" y="1384200"/>
            <a:chExt cx="2349360" cy="849600"/>
          </a:xfrm>
        </p:grpSpPr>
        <p:pic>
          <p:nvPicPr>
            <p:cNvPr id="52" name="Picture 32" descr="DD80:Users:csauvage:Documents: OPERA MEUS:DOSSIERS EN COURS:INTERREG IV C:EXE:PPT:medias:Flag_EU.png"/>
            <p:cNvPicPr/>
            <p:nvPr/>
          </p:nvPicPr>
          <p:blipFill>
            <a:blip r:embed="rId5"/>
            <a:stretch/>
          </p:blipFill>
          <p:spPr>
            <a:xfrm>
              <a:off x="6872400" y="138420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3"/>
            <p:cNvSpPr/>
            <p:nvPr/>
          </p:nvSpPr>
          <p:spPr>
            <a:xfrm>
              <a:off x="6794640" y="183528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680" y="2704680"/>
            <a:ext cx="6553440" cy="646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316e"/>
                </a:solidFill>
                <a:latin typeface="Arial"/>
              </a:rPr>
              <a:t>R</a:t>
            </a:r>
            <a:r>
              <a:rPr b="1" lang="en-GB" sz="3600" spc="-1" strike="noStrike">
                <a:solidFill>
                  <a:srgbClr val="00316e"/>
                </a:solidFill>
                <a:latin typeface="Arial"/>
              </a:rPr>
              <a:t>e</a:t>
            </a:r>
            <a:r>
              <a:rPr b="1" lang="hu-HU" sz="3600" spc="-1" strike="noStrike">
                <a:solidFill>
                  <a:srgbClr val="00316e"/>
                </a:solidFill>
                <a:latin typeface="Arial"/>
              </a:rPr>
              <a:t>porting</a:t>
            </a:r>
            <a:r>
              <a:rPr b="1" lang="en-GB" sz="3600" spc="-1" strike="noStrike">
                <a:solidFill>
                  <a:srgbClr val="0031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4114440"/>
            <a:ext cx="784872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316e"/>
                </a:solidFill>
                <a:latin typeface="Arial"/>
              </a:rPr>
              <a:t>György Alföldy, Katja Ecke</a:t>
            </a:r>
            <a:endParaRPr b="1" lang="en-US" sz="3200" spc="-1" strike="noStrike">
              <a:solidFill>
                <a:srgbClr val="00316e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16e"/>
                </a:solidFill>
                <a:latin typeface="Arial"/>
              </a:rPr>
              <a:t>Finance Officers, JTS</a:t>
            </a:r>
            <a:endParaRPr b="1" lang="en-US" sz="32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igibility perio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92880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With the exception of preparation costs (see below), costs for the projects are eligible from the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date of approval by the Monitoring Committee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to the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end of the month quoted as “finalisation month” in the approved application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Project duration: 10/2008 – 09/2011 indicated in application form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14 September 2008 Monitoring Committee approved under conditions.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28 &amp; 29 September participation in a Lead Partner seminar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11 November 2008 subsidy contract signed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Are the costs linked to the fulfilment of conditions prior to the signing of the subsidy contract eligible?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Are the costs for the participation in the Lead Partner seminar eligible?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6176520" y="47149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b050"/>
                </a:solidFill>
                <a:latin typeface="Webdings"/>
                <a:ea typeface="Webdings"/>
              </a:rPr>
              <a:t></a:t>
            </a:r>
            <a:endParaRPr b="0" lang="en-US" sz="6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961720" y="542916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b050"/>
                </a:solidFill>
                <a:latin typeface="Webdings"/>
                <a:ea typeface="Webdings"/>
              </a:rPr>
              <a:t></a:t>
            </a:r>
            <a:endParaRPr b="0" lang="en-US" sz="6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ligibility perio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-214200" y="857160"/>
            <a:ext cx="900108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Preparation costs: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for approved projects; incurred between 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1 January 2007 and the date on which the AF has been submitted.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These costs must be paid out before they are reported in the first progress report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. 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Preparation costs are limited to a ceiling of EUR 30,000.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Application submitted for the 1</a:t>
            </a:r>
            <a:r>
              <a:rPr b="0" lang="en-GB" sz="1800" spc="-1" strike="noStrike" baseline="30000">
                <a:solidFill>
                  <a:srgbClr val="00316e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call: 14 January 2008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Preparation costs indicated in the AF by several partners for a total of EUR 27,000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Partner A claims prep. cost for a meeting taken place on 04 March 2008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Partner B pays out prep. cost on 02 January 2009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Partner C miscalculated staff costs for the preparation which leads to a justified deviation and an increase to a total of EUR 29,500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In PR 1 the Lead Partner includes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costs linked to the fulfilment of  conditions prior to the signing of the subsidy contract </a:t>
            </a:r>
            <a:r>
              <a:rPr b="1" lang="en-GB" sz="1800" spc="-1" strike="noStrike">
                <a:solidFill>
                  <a:srgbClr val="00316e"/>
                </a:solidFill>
                <a:latin typeface="Arial"/>
              </a:rPr>
              <a:t>as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preparation cost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8526960" y="421488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Wingdings 2"/>
                <a:ea typeface="Wingdings 2"/>
              </a:rPr>
              <a:t>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6312240" y="457200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Wingdings 2"/>
                <a:ea typeface="Wingdings 2"/>
              </a:rPr>
              <a:t>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8593560" y="597708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Wingdings 2"/>
                <a:ea typeface="Wingdings 2"/>
              </a:rPr>
              <a:t>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7176600" y="49849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b050"/>
                </a:solidFill>
                <a:latin typeface="Webdings"/>
                <a:ea typeface="Webdings"/>
              </a:rPr>
              <a:t></a:t>
            </a:r>
            <a:endParaRPr b="0" lang="en-US" sz="6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igibility perio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92844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xpenditure is eligible for a specific reporting period, if the expenditure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was paid out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before the end of this reporting period!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hotel invoice from a conference 14/15 December 2008 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paid by the employee 15 December 2008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employee is reimbursed 07 January 2009 [amount is debited from the project’s bank account 04 January 2009].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To be included in progress report </a:t>
            </a:r>
            <a:br>
              <a:rPr sz="1800"/>
            </a:b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July - Dec 2008 or </a:t>
            </a:r>
            <a:br>
              <a:rPr sz="1800"/>
            </a:b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Jan - June 2009 ?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Expenditure is considered to be paid when the amount is debited from the partner institution’s bank account.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The date when the invoice was issued, recorded or booked in the accounting system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does not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count as a payment date.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818880" y="39132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b050"/>
                </a:solidFill>
                <a:latin typeface="Webdings"/>
                <a:ea typeface="Webdings"/>
              </a:rPr>
              <a:t></a:t>
            </a:r>
            <a:endParaRPr b="0" lang="en-US" sz="6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2209680" y="2705040"/>
            <a:ext cx="6553440" cy="646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16e"/>
                </a:solidFill>
                <a:latin typeface="Arial"/>
              </a:rPr>
              <a:t>Reporting – Budget flexibility</a:t>
            </a:r>
            <a:endParaRPr b="0" lang="en-US" sz="36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dget flexibi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1371240"/>
            <a:ext cx="82296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16e"/>
                </a:solidFill>
                <a:latin typeface="Arial"/>
              </a:rPr>
              <a:t>Art. 2 of the subsidy contract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16e"/>
                </a:solidFill>
                <a:latin typeface="Arial"/>
              </a:rPr>
              <a:t>programme manual section 4.4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16e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316e"/>
                </a:solidFill>
                <a:latin typeface="Arial"/>
              </a:rPr>
              <a:t> different </a:t>
            </a:r>
            <a:r>
              <a:rPr b="1" lang="de-DE" sz="2000" spc="-1" strike="noStrike">
                <a:solidFill>
                  <a:srgbClr val="00316e"/>
                </a:solidFill>
                <a:latin typeface="Arial"/>
              </a:rPr>
              <a:t>rules</a:t>
            </a:r>
            <a:r>
              <a:rPr b="0" lang="de-DE" sz="2000" spc="-1" strike="noStrike">
                <a:solidFill>
                  <a:srgbClr val="00316e"/>
                </a:solidFill>
                <a:latin typeface="Arial"/>
              </a:rPr>
              <a:t> are applicable: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6e"/>
                </a:solidFill>
                <a:latin typeface="Arial"/>
              </a:rPr>
              <a:t>Rule 1: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 20 000 €/10 % flexibility rule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6e"/>
                </a:solidFill>
                <a:latin typeface="Arial"/>
              </a:rPr>
              <a:t>Rule 2: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20%-flexibility rule (with prior JTS approval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dget flexibi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37124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Rule 1: EUR 20 000 /10 % flexibility rule  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possible through the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progress report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, with explanations of why budget lines, components budgets or partners’ budget are exceeded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if the original amount in the application form (at the level of the overall budget of the project) is lower than EUR 200,000, it can be exceeded by a maximum of EUR 20,000;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if the original amount in the application form (at the level of the overall budget of the project) is higher than 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EUR 200,000, it can be exceeded by a maximum of 10 %.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dget flexibi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92844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Rule 1: EUR 20 000 /10 % flexibility rule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16e"/>
                </a:solidFill>
                <a:latin typeface="Arial"/>
              </a:rPr>
              <a:t>Example</a:t>
            </a:r>
            <a:br>
              <a:rPr sz="2000"/>
            </a:br>
            <a:r>
              <a:rPr b="0" lang="de-DE" sz="20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57120" y="1785960"/>
          <a:ext cx="8501040" cy="3981600"/>
        </p:xfrm>
        <a:graphic>
          <a:graphicData uri="http://schemas.openxmlformats.org/drawingml/2006/table">
            <a:tbl>
              <a:tblPr/>
              <a:tblGrid>
                <a:gridCol w="1785960"/>
                <a:gridCol w="1965240"/>
                <a:gridCol w="1820880"/>
                <a:gridCol w="292896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Calibri"/>
                        </a:rPr>
                        <a:t>Budget line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Calibri"/>
                        </a:rPr>
                        <a:t>Original amount in the approved AF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Calibri"/>
                        </a:rPr>
                        <a:t>Max. possible overspending on this line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Calibri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16e"/>
                          </a:solidFill>
                          <a:latin typeface="Arial"/>
                          <a:ea typeface="Calibri"/>
                        </a:rPr>
                        <a:t>Administration costs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16e"/>
                          </a:solidFill>
                          <a:latin typeface="Arial"/>
                          <a:ea typeface="Calibri"/>
                        </a:rPr>
                        <a:t>EUR 50,0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16e"/>
                          </a:solidFill>
                          <a:latin typeface="Arial"/>
                          <a:ea typeface="Calibri"/>
                        </a:rPr>
                        <a:t>EUR 20,0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16e"/>
                          </a:solidFill>
                          <a:latin typeface="Arial"/>
                          <a:ea typeface="Calibri"/>
                        </a:rPr>
                        <a:t>As 10 % of the original amount (i.e. EUR 5,000) is smaller than EUR 20,000 this budget line can be exceeded by a maximum of EUR 20,000.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16e"/>
                          </a:solidFill>
                          <a:latin typeface="Arial"/>
                          <a:ea typeface="Calibri"/>
                        </a:rPr>
                        <a:t>Staff costs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16e"/>
                          </a:solidFill>
                          <a:latin typeface="Arial"/>
                          <a:ea typeface="Calibri"/>
                        </a:rPr>
                        <a:t>EUR 500,0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16e"/>
                          </a:solidFill>
                          <a:latin typeface="Arial"/>
                          <a:ea typeface="Calibri"/>
                        </a:rPr>
                        <a:t>EUR 50,0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316e"/>
                          </a:solidFill>
                          <a:latin typeface="Arial"/>
                          <a:ea typeface="Calibri"/>
                        </a:rPr>
                        <a:t>As 10 % of the original budget (i.e. EUR 50,000) is higher than EUR 20,000, this budget line can be exceeded by EUR 50,0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520" y="1371600"/>
            <a:ext cx="82296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6e"/>
                </a:solidFill>
                <a:latin typeface="Arial"/>
              </a:rPr>
              <a:t>Rule 2: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20%-flexibility rule 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Requires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formal request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to the JTS to approve budget changes within the limit of 20% of the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total budget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of the project– only once during the project lifetime.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In the case of a budget reallocation, the shifts allowed to increase components, budget lines and partners budgets (using the underspending of other budget lines/components/partners) are of a maximum of 20 % of the total budget of the project.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The reallocated budget can again be subject to deviations within the limits of the EUR 20,000 /10% flexibility rule.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dget flexibi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352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6e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total project budget = EUR 1,000,000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max. increase of each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budget line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component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partner budget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= EUR 200,000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0" y="3357720"/>
            <a:ext cx="9144000" cy="25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6e"/>
                </a:solidFill>
                <a:latin typeface="Arial"/>
              </a:rPr>
              <a:t>For both Rule 1 and 2: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!! Budget flexibility applies to the overall partnership‘s budget* as presented in AF!!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!! The overall ERDF/Norwegian funding cannot be exceeded !!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16e"/>
                </a:solidFill>
                <a:latin typeface="Arial"/>
              </a:rPr>
              <a:t>*The partnership should therefore agree on </a:t>
            </a:r>
            <a:r>
              <a:rPr b="1" lang="de-DE" sz="1600" spc="-1" strike="noStrike" u="sng">
                <a:solidFill>
                  <a:srgbClr val="00316e"/>
                </a:solidFill>
                <a:uFillTx/>
                <a:latin typeface="Arial"/>
              </a:rPr>
              <a:t>how to handle</a:t>
            </a:r>
            <a:r>
              <a:rPr b="1" lang="de-DE" sz="1600" spc="-1" strike="noStrike">
                <a:solidFill>
                  <a:srgbClr val="00316e"/>
                </a:solidFill>
                <a:latin typeface="Arial"/>
              </a:rPr>
              <a:t> the budget flexiblity on partner level.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37160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6e"/>
                </a:solidFill>
                <a:latin typeface="Arial"/>
              </a:rPr>
              <a:t>Thank you for your attention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16e"/>
                </a:solidFill>
                <a:latin typeface="Arial"/>
              </a:rPr>
              <a:t>Reporting – </a:t>
            </a:r>
            <a:r>
              <a:rPr b="1" lang="hu-HU" sz="3200" spc="-1" strike="noStrike">
                <a:solidFill>
                  <a:srgbClr val="00316e"/>
                </a:solidFill>
                <a:latin typeface="Arial"/>
              </a:rPr>
              <a:t>Deadlines and procedures</a:t>
            </a:r>
            <a:endParaRPr b="1" lang="en-US" sz="32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dget flexibi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0040" y="33577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6e"/>
                </a:solidFill>
                <a:latin typeface="Arial"/>
              </a:rPr>
              <a:t>Examples for the 10% / EUR 20,000 flexibility rule 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6e"/>
                </a:solidFill>
                <a:latin typeface="Arial"/>
              </a:rPr>
              <a:t>using the progress report template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7215120" cy="51832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dget flexibi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92880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16e"/>
                </a:solidFill>
                <a:latin typeface="Arial"/>
              </a:rPr>
              <a:t>10% / EUR 20,000 not respected by budget line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0" name="Flowchart: Terminator 5"/>
          <p:cNvSpPr/>
          <p:nvPr/>
        </p:nvSpPr>
        <p:spPr>
          <a:xfrm>
            <a:off x="6286680" y="2786040"/>
            <a:ext cx="1714320" cy="357120"/>
          </a:xfrm>
          <a:prstGeom prst="flowChartTerminator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dget flexibi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14300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16e"/>
                </a:solidFill>
                <a:latin typeface="Arial"/>
              </a:rPr>
              <a:t>10% / EUR 20,000 respected by budget line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7807320" cy="5143320"/>
          </a:xfrm>
          <a:prstGeom prst="rect">
            <a:avLst/>
          </a:prstGeom>
          <a:ln w="0">
            <a:noFill/>
          </a:ln>
        </p:spPr>
      </p:pic>
      <p:sp>
        <p:nvSpPr>
          <p:cNvPr id="204" name="Flowchart: Terminator 4"/>
          <p:cNvSpPr/>
          <p:nvPr/>
        </p:nvSpPr>
        <p:spPr>
          <a:xfrm>
            <a:off x="6858000" y="3143160"/>
            <a:ext cx="1714680" cy="357120"/>
          </a:xfrm>
          <a:prstGeom prst="flowChartTerminator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dget flexibi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03356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16e"/>
                </a:solidFill>
                <a:latin typeface="Arial"/>
              </a:rPr>
              <a:t>10% / EUR 20,000 not respected by componen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929720" cy="5207040"/>
          </a:xfrm>
          <a:prstGeom prst="rect">
            <a:avLst/>
          </a:prstGeom>
          <a:ln w="0">
            <a:noFill/>
          </a:ln>
        </p:spPr>
      </p:pic>
      <p:sp>
        <p:nvSpPr>
          <p:cNvPr id="208" name="Flowchart: Terminator 5"/>
          <p:cNvSpPr/>
          <p:nvPr/>
        </p:nvSpPr>
        <p:spPr>
          <a:xfrm>
            <a:off x="6858000" y="5500800"/>
            <a:ext cx="1714680" cy="357120"/>
          </a:xfrm>
          <a:prstGeom prst="flowChartTerminator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940520" cy="52149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dget flexibi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03356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16e"/>
                </a:solidFill>
                <a:latin typeface="Arial"/>
              </a:rPr>
              <a:t>10% / EUR 20,000 respected by componen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2" name="Flowchart: Terminator 3"/>
          <p:cNvSpPr/>
          <p:nvPr/>
        </p:nvSpPr>
        <p:spPr>
          <a:xfrm>
            <a:off x="6858000" y="5643720"/>
            <a:ext cx="1714680" cy="357120"/>
          </a:xfrm>
          <a:prstGeom prst="flowChartTerminator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dget flexibi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3520" y="103356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16e"/>
                </a:solidFill>
                <a:latin typeface="Arial"/>
              </a:rPr>
              <a:t>10% / EUR 20,000 not respected by partner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8026200" cy="5072040"/>
          </a:xfrm>
          <a:prstGeom prst="rect">
            <a:avLst/>
          </a:prstGeom>
          <a:ln w="0">
            <a:noFill/>
          </a:ln>
        </p:spPr>
      </p:pic>
      <p:sp>
        <p:nvSpPr>
          <p:cNvPr id="216" name="Flowchart: Terminator 4"/>
          <p:cNvSpPr/>
          <p:nvPr/>
        </p:nvSpPr>
        <p:spPr>
          <a:xfrm>
            <a:off x="6929280" y="3000240"/>
            <a:ext cx="1714680" cy="357480"/>
          </a:xfrm>
          <a:prstGeom prst="flowChartTerminator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dget flexibi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520" y="99972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16e"/>
                </a:solidFill>
                <a:latin typeface="Arial"/>
              </a:rPr>
              <a:t>10% / EUR 20,000 respected by partner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8001000" cy="5334120"/>
          </a:xfrm>
          <a:prstGeom prst="rect">
            <a:avLst/>
          </a:prstGeom>
          <a:ln w="0">
            <a:noFill/>
          </a:ln>
        </p:spPr>
      </p:pic>
      <p:sp>
        <p:nvSpPr>
          <p:cNvPr id="220" name="Flowchart: Terminator 4"/>
          <p:cNvSpPr/>
          <p:nvPr/>
        </p:nvSpPr>
        <p:spPr>
          <a:xfrm>
            <a:off x="6929280" y="3429000"/>
            <a:ext cx="1714680" cy="357120"/>
          </a:xfrm>
          <a:prstGeom prst="flowChartTerminator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eadlines and proced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37124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iming Progress Repor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First submission:  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By 1 Apr 2009 covering the reporting period from </a:t>
            </a:r>
            <a:r>
              <a:rPr b="0" lang="hu-HU" sz="1800" spc="-1" strike="noStrike">
                <a:solidFill>
                  <a:srgbClr val="00316e"/>
                </a:solidFill>
                <a:latin typeface="Arial"/>
              </a:rPr>
              <a:t>date of MC approval</a:t>
            </a: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 to 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31 Dec 2008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16e"/>
                </a:solidFill>
                <a:latin typeface="Arial"/>
              </a:rPr>
              <a:t>Progress report </a:t>
            </a: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to be submitted every six-months to the JTS</a:t>
            </a:r>
            <a:r>
              <a:rPr b="0" lang="hu-HU" sz="1800" spc="-1" strike="noStrike">
                <a:solidFill>
                  <a:srgbClr val="00316e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By 1 Oct covering the reporting period from Jan to Jun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By 1 Apr covering the reporting period from Jul to Dec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eadlines and proced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68360" y="1484280"/>
            <a:ext cx="8424720" cy="39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Standard procedur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JTS sends a pre-filled Excel file by e-mail to Lead partner.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Lead partner returns the filled-in forms </a:t>
            </a:r>
            <a:r>
              <a:rPr b="0" lang="hu-HU" sz="2000" spc="-1" strike="noStrike">
                <a:solidFill>
                  <a:srgbClr val="00316e"/>
                </a:solidFill>
                <a:latin typeface="Arial"/>
                <a:ea typeface="Arial"/>
              </a:rPr>
              <a:t>+ partner control confirmations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at given deadline by e-mail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and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by post. 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316e"/>
              </a:buClr>
              <a:buFont typeface="Wingdings" charset="2"/>
              <a:buChar char="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Each project has two contact persons within the JTS (one Project Officer and one Finance Officer) which should be recipient of all communic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16e"/>
                </a:solidFill>
                <a:latin typeface="Arial"/>
                <a:ea typeface="Arial"/>
              </a:rPr>
              <a:t>3.     Clarifications by e-mail and by post until final approval of the progress report 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55640" y="119700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Timeframe for reporting and monitoring (example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539640" y="2205000"/>
            <a:ext cx="8064360" cy="3494880"/>
            <a:chOff x="539640" y="2205000"/>
            <a:chExt cx="8064360" cy="3494880"/>
          </a:xfrm>
        </p:grpSpPr>
        <p:sp>
          <p:nvSpPr>
            <p:cNvPr id="109" name="Line 4"/>
            <p:cNvSpPr/>
            <p:nvPr/>
          </p:nvSpPr>
          <p:spPr>
            <a:xfrm>
              <a:off x="1116000" y="3381120"/>
              <a:ext cx="7488000" cy="0"/>
            </a:xfrm>
            <a:prstGeom prst="line">
              <a:avLst/>
            </a:prstGeom>
            <a:ln w="76320">
              <a:solidFill>
                <a:srgbClr val="00316e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>
              <a:off x="3924000" y="2662200"/>
              <a:ext cx="0" cy="1079280"/>
            </a:xfrm>
            <a:prstGeom prst="line">
              <a:avLst/>
            </a:prstGeom>
            <a:ln w="381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3274920" y="3741480"/>
              <a:ext cx="13669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ed2819"/>
                  </a:solidFill>
                  <a:latin typeface="Arial"/>
                </a:rPr>
                <a:t>Submission of PR by LP to JTS (confirmed by LP controller)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753840" y="2230200"/>
              <a:ext cx="79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d2819"/>
                  </a:solidFill>
                  <a:latin typeface="Arial"/>
                </a:rPr>
                <a:t>31/12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13" name="Text Box 8"/>
            <p:cNvSpPr/>
            <p:nvPr/>
          </p:nvSpPr>
          <p:spPr>
            <a:xfrm>
              <a:off x="539640" y="3814560"/>
              <a:ext cx="1152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ed2819"/>
                  </a:solidFill>
                  <a:latin typeface="Arial"/>
                </a:rPr>
                <a:t>End of reporting period 30/06 – 31/12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14" name="Text Box 9"/>
            <p:cNvSpPr/>
            <p:nvPr/>
          </p:nvSpPr>
          <p:spPr>
            <a:xfrm>
              <a:off x="3566880" y="2205000"/>
              <a:ext cx="79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d2819"/>
                  </a:solidFill>
                  <a:latin typeface="Arial"/>
                </a:rPr>
                <a:t>01/04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15" name="Text Box 10"/>
            <p:cNvSpPr/>
            <p:nvPr/>
          </p:nvSpPr>
          <p:spPr>
            <a:xfrm>
              <a:off x="2193840" y="2733480"/>
              <a:ext cx="79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316e"/>
                  </a:solidFill>
                  <a:latin typeface="Arial"/>
                </a:rPr>
                <a:t>15/02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2482560" y="3093840"/>
              <a:ext cx="0" cy="1152360"/>
            </a:xfrm>
            <a:prstGeom prst="line">
              <a:avLst/>
            </a:prstGeom>
            <a:ln w="381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17" name="Text Box 12"/>
            <p:cNvSpPr/>
            <p:nvPr/>
          </p:nvSpPr>
          <p:spPr>
            <a:xfrm>
              <a:off x="1571400" y="4343040"/>
              <a:ext cx="17035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16e"/>
                  </a:solidFill>
                  <a:latin typeface="Arial"/>
                </a:rPr>
                <a:t>Submission of PP input to PR to LP (incl. PP controller’s confirmation)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18" name="Line 13"/>
            <p:cNvSpPr/>
            <p:nvPr/>
          </p:nvSpPr>
          <p:spPr>
            <a:xfrm>
              <a:off x="5148000" y="3093840"/>
              <a:ext cx="0" cy="1224000"/>
            </a:xfrm>
            <a:prstGeom prst="line">
              <a:avLst/>
            </a:prstGeom>
            <a:ln w="381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4786200" y="2757240"/>
              <a:ext cx="79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316e"/>
                  </a:solidFill>
                  <a:latin typeface="Arial"/>
                </a:rPr>
                <a:t>01/05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4498920" y="4389120"/>
              <a:ext cx="1368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16e"/>
                  </a:solidFill>
                  <a:latin typeface="Arial"/>
                </a:rPr>
                <a:t>Feedback on PR by JTS to LP, clarification request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21" name="Line 16"/>
            <p:cNvSpPr/>
            <p:nvPr/>
          </p:nvSpPr>
          <p:spPr>
            <a:xfrm>
              <a:off x="6372000" y="3093840"/>
              <a:ext cx="0" cy="1224000"/>
            </a:xfrm>
            <a:prstGeom prst="line">
              <a:avLst/>
            </a:prstGeom>
            <a:ln w="381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6010200" y="2733480"/>
              <a:ext cx="79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316e"/>
                  </a:solidFill>
                  <a:latin typeface="Arial"/>
                </a:rPr>
                <a:t>22/05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5797440" y="4389120"/>
              <a:ext cx="1150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16e"/>
                  </a:solidFill>
                  <a:latin typeface="Arial"/>
                </a:rPr>
                <a:t>Approval of PR + clarification by JTS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24" name="Text Box 19"/>
            <p:cNvSpPr/>
            <p:nvPr/>
          </p:nvSpPr>
          <p:spPr>
            <a:xfrm>
              <a:off x="7018200" y="2733480"/>
              <a:ext cx="79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316e"/>
                  </a:solidFill>
                  <a:latin typeface="Arial"/>
                </a:rPr>
                <a:t>22/06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>
              <a:off x="7451640" y="3093840"/>
              <a:ext cx="0" cy="1224000"/>
            </a:xfrm>
            <a:prstGeom prst="line">
              <a:avLst/>
            </a:prstGeom>
            <a:ln w="381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6875280" y="4389120"/>
              <a:ext cx="1150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16e"/>
                  </a:solidFill>
                  <a:latin typeface="Arial"/>
                </a:rPr>
                <a:t>Payment by Certifying Authority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3993840" y="3044520"/>
              <a:ext cx="11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16e"/>
                  </a:solidFill>
                  <a:latin typeface="Arial"/>
                </a:rPr>
                <a:t>~ 4 weeks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28" name="Text Box 23"/>
            <p:cNvSpPr/>
            <p:nvPr/>
          </p:nvSpPr>
          <p:spPr>
            <a:xfrm>
              <a:off x="6372000" y="3044520"/>
              <a:ext cx="11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16e"/>
                  </a:solidFill>
                  <a:latin typeface="Arial"/>
                </a:rPr>
                <a:t>~ 4 weeks</a:t>
              </a:r>
              <a:endParaRPr b="0" lang="en-US" sz="16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</p:grpSp>
      <p:sp>
        <p:nvSpPr>
          <p:cNvPr id="129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eadlines and procedure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74872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Timing Confirmation of expenditure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SimSun"/>
              </a:rPr>
              <a:t>Progress Report to be submitted three months after end of reporting period at the latest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SimSun"/>
              </a:rPr>
              <a:t>PP controllers should be ready to deliver their confirmation at the latest two months after the reporting period to the LP 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838080" indent="-38088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6e"/>
                </a:solidFill>
                <a:latin typeface="Arial"/>
                <a:ea typeface="SimSun"/>
              </a:rPr>
              <a:t>Member States/Norway signed Agreement in which they confirm (§ 6) that they do their utmost to ensure that validation of expenditure is done within  two month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Control costs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SimSun"/>
              </a:rPr>
              <a:t>Are eligible in accordance to Article 49 of Regulation</a:t>
            </a:r>
            <a:r>
              <a:rPr b="0" lang="hu-HU" sz="2000" spc="-1" strike="noStrike">
                <a:solidFill>
                  <a:srgbClr val="00316e"/>
                </a:solidFill>
                <a:latin typeface="Arial"/>
                <a:ea typeface="SimSun"/>
              </a:rPr>
              <a:t> (EC) No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SimSun"/>
              </a:rPr>
              <a:t>1828/2006, however, only within the project duration. </a:t>
            </a:r>
            <a:r>
              <a:rPr b="0" lang="hu-HU" sz="2000" spc="-1" strike="noStrike">
                <a:solidFill>
                  <a:srgbClr val="00316e"/>
                </a:solidFill>
                <a:latin typeface="Arial"/>
                <a:ea typeface="SimSun"/>
              </a:rPr>
              <a:t>It is also advised to check national rules beforehand on this issue.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SimSun"/>
              </a:rPr>
              <a:t>Costs after the </a:t>
            </a:r>
            <a:r>
              <a:rPr b="0" lang="hu-HU" sz="2000" spc="-1" strike="noStrike">
                <a:solidFill>
                  <a:srgbClr val="00316e"/>
                </a:solidFill>
                <a:latin typeface="Arial"/>
                <a:ea typeface="SimSun"/>
              </a:rPr>
              <a:t>official end date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SimSun"/>
              </a:rPr>
              <a:t>of the project have to be borne by the partnership. 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eadlines and procedure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214800" y="5572080"/>
            <a:ext cx="190476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Project Partner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3" name="Picture 3" descr="BD04882_"/>
          <p:cNvPicPr/>
          <p:nvPr/>
        </p:nvPicPr>
        <p:blipFill>
          <a:blip r:embed="rId1"/>
          <a:stretch/>
        </p:blipFill>
        <p:spPr>
          <a:xfrm>
            <a:off x="3059280" y="1730520"/>
            <a:ext cx="745920" cy="639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059280" y="3921120"/>
            <a:ext cx="240012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Lead Partner (LP)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059280" y="2416320"/>
            <a:ext cx="2400120" cy="64260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Joint Secretariat/ Managing Authority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6" name="Picture 6" descr="BS01060_"/>
          <p:cNvPicPr/>
          <p:nvPr/>
        </p:nvPicPr>
        <p:blipFill>
          <a:blip r:embed="rId2"/>
          <a:stretch/>
        </p:blipFill>
        <p:spPr>
          <a:xfrm>
            <a:off x="3249720" y="4813200"/>
            <a:ext cx="745920" cy="673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3059280" y="1197000"/>
            <a:ext cx="238752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Certifying Authority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8" name="AutoShape 8"/>
          <p:cNvSpPr/>
          <p:nvPr/>
        </p:nvSpPr>
        <p:spPr>
          <a:xfrm rot="16200000">
            <a:off x="3831120" y="4923000"/>
            <a:ext cx="760680" cy="362160"/>
          </a:xfrm>
          <a:prstGeom prst="rightArrow">
            <a:avLst>
              <a:gd name="adj1" fmla="val 50000"/>
              <a:gd name="adj2" fmla="val 52510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9" name="Picture 9" descr="BS01094_"/>
          <p:cNvPicPr/>
          <p:nvPr/>
        </p:nvPicPr>
        <p:blipFill>
          <a:blip r:embed="rId3"/>
          <a:stretch/>
        </p:blipFill>
        <p:spPr>
          <a:xfrm>
            <a:off x="3076560" y="3102120"/>
            <a:ext cx="727200" cy="7254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0"/>
          <p:cNvSpPr/>
          <p:nvPr/>
        </p:nvSpPr>
        <p:spPr>
          <a:xfrm rot="16200000">
            <a:off x="3833640" y="3374280"/>
            <a:ext cx="755640" cy="362160"/>
          </a:xfrm>
          <a:prstGeom prst="rightArrow">
            <a:avLst>
              <a:gd name="adj1" fmla="val 50000"/>
              <a:gd name="adj2" fmla="val 52162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1" name="AutoShape 11"/>
          <p:cNvSpPr/>
          <p:nvPr/>
        </p:nvSpPr>
        <p:spPr>
          <a:xfrm rot="16200000">
            <a:off x="3868560" y="1891800"/>
            <a:ext cx="685800" cy="362160"/>
          </a:xfrm>
          <a:prstGeom prst="rightArrow">
            <a:avLst>
              <a:gd name="adj1" fmla="val 50000"/>
              <a:gd name="adj2" fmla="val 47341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5286240" y="5572080"/>
            <a:ext cx="190512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Project Partner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43" name="Picture 13" descr="BS01060_"/>
          <p:cNvPicPr/>
          <p:nvPr/>
        </p:nvPicPr>
        <p:blipFill>
          <a:blip r:embed="rId4"/>
          <a:stretch/>
        </p:blipFill>
        <p:spPr>
          <a:xfrm>
            <a:off x="6602400" y="4813200"/>
            <a:ext cx="746280" cy="6732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4"/>
          <p:cNvSpPr/>
          <p:nvPr/>
        </p:nvSpPr>
        <p:spPr>
          <a:xfrm rot="13614000">
            <a:off x="5597280" y="4870440"/>
            <a:ext cx="990720" cy="361800"/>
          </a:xfrm>
          <a:prstGeom prst="rightArrow">
            <a:avLst>
              <a:gd name="adj1" fmla="val 50000"/>
              <a:gd name="adj2" fmla="val 68458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1143000" y="5572080"/>
            <a:ext cx="190512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Project Partner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46" name="Picture 16" descr="BS01060_"/>
          <p:cNvPicPr/>
          <p:nvPr/>
        </p:nvPicPr>
        <p:blipFill>
          <a:blip r:embed="rId5"/>
          <a:stretch/>
        </p:blipFill>
        <p:spPr>
          <a:xfrm>
            <a:off x="1116000" y="4809960"/>
            <a:ext cx="746280" cy="6732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17"/>
          <p:cNvSpPr/>
          <p:nvPr/>
        </p:nvSpPr>
        <p:spPr>
          <a:xfrm rot="19141800">
            <a:off x="1887480" y="4852800"/>
            <a:ext cx="1066680" cy="361800"/>
          </a:xfrm>
          <a:prstGeom prst="rightArrow">
            <a:avLst>
              <a:gd name="adj1" fmla="val 50000"/>
              <a:gd name="adj2" fmla="val 73706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7286760" y="5143680"/>
            <a:ext cx="14475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1. Expenditure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controlled by 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PP-controller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7215120" y="3143160"/>
            <a:ext cx="19288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2. LP compiles the joint Progress Report,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Expenditure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controlled by 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LP-controller and 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collection of PP 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cost statements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7273800" y="1571760"/>
            <a:ext cx="18702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73bd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. Progress Reports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checked by 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Project Officer 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and Finance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Officer in JTS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7236000" y="1039680"/>
            <a:ext cx="16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73bd"/>
                </a:solidFill>
                <a:latin typeface="Arial"/>
              </a:rPr>
              <a:t>4. CA checks and initiates payment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1258920" y="18900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44360" y="907920"/>
            <a:ext cx="26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Reporting and Control System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4" name="Line 25"/>
          <p:cNvSpPr/>
          <p:nvPr/>
        </p:nvSpPr>
        <p:spPr>
          <a:xfrm flipH="1">
            <a:off x="2484360" y="4365720"/>
            <a:ext cx="1008000" cy="1008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5" name="Line 26"/>
          <p:cNvSpPr/>
          <p:nvPr/>
        </p:nvSpPr>
        <p:spPr>
          <a:xfrm>
            <a:off x="4572000" y="4365720"/>
            <a:ext cx="0" cy="1150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5003640" y="4365720"/>
            <a:ext cx="863640" cy="1008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6588000" y="234936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724360" y="1413000"/>
            <a:ext cx="1295640" cy="316836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554400 h 3168360"/>
              <a:gd name="textAreaBottom" fmla="*/ 229716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5940360" y="270828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Times New Roman"/>
              </a:rPr>
              <a:t>Payment to LP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60" name="Rectangle 31"/>
          <p:cNvSpPr/>
          <p:nvPr/>
        </p:nvSpPr>
        <p:spPr>
          <a:xfrm rot="3063600">
            <a:off x="4570920" y="4797000"/>
            <a:ext cx="14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Times New Roman"/>
              </a:rPr>
              <a:t>Payment to PP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61" name="Rectangle 31"/>
          <p:cNvSpPr/>
          <p:nvPr/>
        </p:nvSpPr>
        <p:spPr>
          <a:xfrm>
            <a:off x="6089760" y="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eadlines and procedure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eadlines and proced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520" y="92880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16e"/>
                </a:solidFill>
                <a:latin typeface="Arial"/>
              </a:rPr>
              <a:t>Most frequent clarification requests</a:t>
            </a: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 concerning 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finance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16e"/>
                </a:solidFill>
                <a:latin typeface="Arial"/>
              </a:rPr>
              <a:t>Underspend, respecting payment forecast – justification, measures to be provided under section 1.6.b of PR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16e"/>
                </a:solidFill>
                <a:latin typeface="Arial"/>
              </a:rPr>
              <a:t>Did all partners report</a:t>
            </a:r>
            <a:r>
              <a:rPr b="1" lang="fr-FR" sz="1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316e"/>
                </a:solidFill>
                <a:latin typeface="Arial"/>
              </a:rPr>
              <a:t>costs? If not </a:t>
            </a:r>
            <a:r>
              <a:rPr b="1" lang="fr-FR" sz="1800" spc="-1" strike="noStrike">
                <a:solidFill>
                  <a:srgbClr val="00316e"/>
                </a:solidFill>
                <a:latin typeface="Arial"/>
              </a:rPr>
              <a:t>, </a:t>
            </a:r>
            <a:r>
              <a:rPr b="1" lang="hu-HU" sz="1800" spc="-1" strike="noStrike">
                <a:solidFill>
                  <a:srgbClr val="00316e"/>
                </a:solidFill>
                <a:latin typeface="Arial"/>
              </a:rPr>
              <a:t>justification needed under  section 1.6.b of PR, indicat</a:t>
            </a:r>
            <a:r>
              <a:rPr b="1" lang="fr-FR" sz="1800" spc="-1" strike="noStrike">
                <a:solidFill>
                  <a:srgbClr val="00316e"/>
                </a:solidFill>
                <a:latin typeface="Arial"/>
              </a:rPr>
              <a:t>e also</a:t>
            </a:r>
            <a:r>
              <a:rPr b="1" lang="hu-HU" sz="1800" spc="-1" strike="noStrike">
                <a:solidFill>
                  <a:srgbClr val="00316e"/>
                </a:solidFill>
                <a:latin typeface="Arial"/>
              </a:rPr>
              <a:t> the reported amount of partners to be shifted to the next reporting period</a:t>
            </a:r>
            <a:r>
              <a:rPr b="1" lang="fr-FR" sz="1800" spc="-1" strike="noStrike">
                <a:solidFill>
                  <a:srgbClr val="00316e"/>
                </a:solidFill>
                <a:latin typeface="Arial"/>
              </a:rPr>
              <a:t>. (Only possible in very well  justified and exceptional cases!)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16e"/>
                </a:solidFill>
                <a:latin typeface="Arial"/>
              </a:rPr>
              <a:t>LP/Partner control confirmations – no amendments accepted,  approved amount has to be coher</a:t>
            </a:r>
            <a:r>
              <a:rPr b="1" lang="fr-FR" sz="1800" spc="-1" strike="noStrike">
                <a:solidFill>
                  <a:srgbClr val="00316e"/>
                </a:solidFill>
                <a:latin typeface="Arial"/>
              </a:rPr>
              <a:t>e</a:t>
            </a:r>
            <a:r>
              <a:rPr b="1" lang="hu-HU" sz="1800" spc="-1" strike="noStrike">
                <a:solidFill>
                  <a:srgbClr val="00316e"/>
                </a:solidFill>
                <a:latin typeface="Arial"/>
              </a:rPr>
              <a:t>nt with reported amounts in the PR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16e"/>
                </a:solidFill>
                <a:latin typeface="Arial"/>
              </a:rPr>
              <a:t>External expertise and services budget items to be linked with the specification in the AF</a:t>
            </a:r>
            <a:r>
              <a:rPr b="1" lang="fr-FR" sz="1800" spc="-1" strike="noStrike">
                <a:solidFill>
                  <a:srgbClr val="00316e"/>
                </a:solidFill>
                <a:latin typeface="Arial"/>
              </a:rPr>
              <a:t>, otherwise justification required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09680" y="2704680"/>
            <a:ext cx="6553440" cy="646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16e"/>
                </a:solidFill>
                <a:latin typeface="Arial"/>
              </a:rPr>
              <a:t>Reporting – Eligibility perio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411444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1:42:20Z</dcterms:created>
  <dc:creator>SAUVAGE Christophe</dc:creator>
  <dc:description/>
  <dc:language>en-US</dc:language>
  <cp:lastModifiedBy>Petra</cp:lastModifiedBy>
  <cp:lastPrinted>2008-01-17T13:50:45Z</cp:lastPrinted>
  <dcterms:modified xsi:type="dcterms:W3CDTF">2009-06-15T12:40:43Z</dcterms:modified>
  <cp:revision>1210</cp:revision>
  <dc:subject/>
  <dc:title>PowerPoint Presentation INTERREG IVC</dc:title>
</cp:coreProperties>
</file>