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396D-B695-40CD-A205-2409337F4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CC0-FA69-47C5-9A2A-F2E028E46D6E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A47-3106-4764-82C7-422DC1C3FFA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9F9B-F2CA-40A5-AE31-5EDB72DC4D5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52AF-3EC4-4508-AC6D-8A26CD3994C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300D-AE8C-414A-9BBC-E49EB1C81BA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108-22DF-4FB9-B8EC-B710ACCCE0E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BFBD-22E5-4314-B7CC-93DBEF492229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Finance Seminar,-Brussels  11 &amp; 12 June 2009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6" name="Picture 27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6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48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49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600" y="2999880"/>
            <a:ext cx="7762680" cy="64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16e"/>
                </a:solidFill>
                <a:latin typeface="Arial"/>
              </a:rPr>
              <a:t>Public Procurement</a:t>
            </a:r>
            <a:r>
              <a:rPr b="1" lang="en-US" sz="3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1320" y="4500360"/>
            <a:ext cx="8205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Finance Seminar</a:t>
            </a:r>
            <a:br>
              <a:rPr sz="2000"/>
            </a:b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Brussels, 11 &amp; 12 June 2009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Procur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85840" y="2143080"/>
            <a:ext cx="885816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roblems related to public procurement rules in the previous period (INTERREG IIIC) 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Not appli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pplied wrongl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Not document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Wrong use of derogation for technical reason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57120" y="11430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Lessons learnt from INTERREG IIIC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357120" y="7858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Procur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4200" y="2643120"/>
            <a:ext cx="9072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All INTERREG IVC partners are concerned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Below EU thresholds, national / internal rules have to be follow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EU treaty principles of competition, equal treatment , transparency have to be respected even below threshold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ublic procurement procedures and decisions have to be documented (even if decision is not to tender)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57120" y="1214280"/>
            <a:ext cx="857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Reminder on public procurement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(basic principles)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57120" y="928800"/>
            <a:ext cx="857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Reminder on public procurement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(legal basis)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Procure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5840" y="2357280"/>
            <a:ext cx="8858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EU treaty principles (whenever the tender is cross-border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Directive 2004/18/EC or Directive 2004/17/ EC (entities operating in the water, energy, transport and postal services sectors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Regulation 1422/2007/EC of 4 December 2007 (thresholds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National rul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nternal rules of the partner’s institu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Procure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85840" y="2214720"/>
            <a:ext cx="88581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IVC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programme manual -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Section 2.4.2.4 and Annex 8c) and Annex 6 Control checklist (point 16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ommunity interpretative Communication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2006/C 179/02 on the Community law applicable to contracts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not or not fully subject to the provisions of the public procurement directiv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ommission Guidelines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or determining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financial corrections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o be made to expenditure co-financed by Structural Funds for non compliance with the rules on public procurement  (flat rate corrections from 2 %  to 100 %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71680" y="928800"/>
            <a:ext cx="764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Reminder on public procurement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(other reference documents)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Procur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5840" y="2214720"/>
            <a:ext cx="88581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identify which rules apply (European, national, internal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pply the right procedure ( publicity, timeframe…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ward the contract in a fair and transparent way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document and archive the relevant documentation /  justific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71680" y="928800"/>
            <a:ext cx="764352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Main steps to be followed by partners and checked by FLC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Any time an external provider is contracted 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928800" y="2000160"/>
            <a:ext cx="7143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14720" y="2857680"/>
            <a:ext cx="61434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  <a:ea typeface="Arial"/>
              </a:rPr>
              <a:t>Thank you for your attention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8:39:49Z</dcterms:created>
  <dc:creator>communication</dc:creator>
  <dc:description/>
  <dc:language>en-US</dc:language>
  <cp:lastModifiedBy>Petra</cp:lastModifiedBy>
  <cp:lastPrinted>2008-01-17T13:50:45Z</cp:lastPrinted>
  <dcterms:modified xsi:type="dcterms:W3CDTF">2009-06-09T08:02:46Z</dcterms:modified>
  <cp:revision>80</cp:revision>
  <dc:subject/>
  <dc:title>Title title title title title</dc:title>
</cp:coreProperties>
</file>