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4.wmf" ContentType="image/x-wmf"/>
  <Override PartName="/ppt/media/image22.jpeg" ContentType="image/jpeg"/>
  <Override PartName="/ppt/media/image26.png" ContentType="image/pn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D8B8-103C-4AA4-B8E2-86A395EE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41360" y="1263240"/>
            <a:ext cx="826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1360" y="3863880"/>
            <a:ext cx="826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CE5D-AC48-4EA9-A18C-E6C7B0FE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1360" y="1263240"/>
            <a:ext cx="403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600" y="1263240"/>
            <a:ext cx="403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1360" y="3863880"/>
            <a:ext cx="403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600" y="3863880"/>
            <a:ext cx="403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008-B435-4105-BDF5-4B9E055A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41360" y="1263240"/>
            <a:ext cx="2660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4960" y="1263240"/>
            <a:ext cx="2660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8200" y="1263240"/>
            <a:ext cx="2660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1360" y="3863880"/>
            <a:ext cx="2660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4960" y="3863880"/>
            <a:ext cx="2660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8200" y="3863880"/>
            <a:ext cx="2660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2C4-81FE-4077-8F87-67E8AA49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C00B-8E8D-4EB5-BA6F-3CE9A04A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41360" y="1263240"/>
            <a:ext cx="826128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6686-99DB-4208-A5BE-AC369827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1360" y="1263240"/>
            <a:ext cx="82612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D17A-63B2-4FD7-B0E5-A2718B30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1360" y="1263240"/>
            <a:ext cx="40312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600" y="1263240"/>
            <a:ext cx="40312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80F0-28BA-4F9B-A2B6-EC774EBB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56F3-D1EF-48E9-9712-48F644BC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42440" y="171000"/>
            <a:ext cx="65106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2550-909F-410C-AB2F-A4695C19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1360" y="1263240"/>
            <a:ext cx="403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600" y="1263240"/>
            <a:ext cx="40312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1360" y="3863880"/>
            <a:ext cx="403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A2C0-E98D-46BA-8B69-F91594B0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41360" y="1263240"/>
            <a:ext cx="826128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16B-CDDE-41D2-9BC4-E91DC855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1360" y="1263240"/>
            <a:ext cx="40312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600" y="1263240"/>
            <a:ext cx="403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600" y="3863880"/>
            <a:ext cx="403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F10F-942B-4E9A-B31B-865B3EB7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1360" y="1263240"/>
            <a:ext cx="403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600" y="1263240"/>
            <a:ext cx="403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41360" y="3863880"/>
            <a:ext cx="826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E3E4-8231-40E2-B7F6-3CD50464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1360" y="1263240"/>
            <a:ext cx="826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1360" y="3863880"/>
            <a:ext cx="826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ADBF-0710-43E9-8B9B-90D5CA38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1360" y="1263240"/>
            <a:ext cx="403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600" y="1263240"/>
            <a:ext cx="403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41360" y="3863880"/>
            <a:ext cx="403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600" y="3863880"/>
            <a:ext cx="403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7B0A-43AA-41CC-9012-436C9BB9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41360" y="1263240"/>
            <a:ext cx="2660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4960" y="1263240"/>
            <a:ext cx="2660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8200" y="1263240"/>
            <a:ext cx="2660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41360" y="3863880"/>
            <a:ext cx="2660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4960" y="3863880"/>
            <a:ext cx="2660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8200" y="3863880"/>
            <a:ext cx="2660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9A67-100D-4975-AA95-DBC32A6C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41360" y="1263240"/>
            <a:ext cx="82612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921-5632-49E5-8E0D-6781F7DA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1360" y="1263240"/>
            <a:ext cx="40312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263240"/>
            <a:ext cx="40312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843E-095F-44FC-A8DE-CADE386C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CF9-7701-4C67-BC66-4AAE05E5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42440" y="171000"/>
            <a:ext cx="65106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A2D8-88A8-4DD0-B046-5CC1D8FD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1360" y="1263240"/>
            <a:ext cx="403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600" y="1263240"/>
            <a:ext cx="40312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1360" y="3863880"/>
            <a:ext cx="403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E12-5520-4093-9710-AE71A99A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1360" y="1263240"/>
            <a:ext cx="40312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600" y="1263240"/>
            <a:ext cx="403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600" y="3863880"/>
            <a:ext cx="403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D8B-6920-4701-968E-154E872E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1360" y="1263240"/>
            <a:ext cx="403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600" y="1263240"/>
            <a:ext cx="403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1360" y="3863880"/>
            <a:ext cx="82612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D73C-D59A-4CA4-8E0B-EEB88AAC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20080" y="5791320"/>
            <a:ext cx="1857240" cy="1828800"/>
          </a:xfrm>
          <a:prstGeom prst="ellipse">
            <a:avLst/>
          </a:prstGeom>
          <a:gradFill rotWithShape="0">
            <a:gsLst>
              <a:gs pos="0">
                <a:srgbClr val="2dafd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afd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1360" y="1263240"/>
            <a:ext cx="82612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720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136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88840" indent="-17136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88840" indent="-171360">
              <a:lnSpc>
                <a:spcPct val="105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88840" indent="-171360">
              <a:lnSpc>
                <a:spcPct val="105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221600" y="246240"/>
            <a:ext cx="1081080" cy="4219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229520" y="755640"/>
            <a:ext cx="1650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EDISH AGENCY FOR ECONOM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ND REGIONAL GROWT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31640" y="1006560"/>
            <a:ext cx="8715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3080" y="6455880"/>
            <a:ext cx="125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C44F-A1FF-42E0-B9A2-8B39489F4E24}" type="datetime">
              <a:rPr b="1" lang="sv-SE" sz="700" spc="-1" strike="noStrike">
                <a:solidFill>
                  <a:srgbClr val="000000"/>
                </a:solidFill>
                <a:latin typeface="Times New Roman"/>
              </a:rPr>
              <a:t>26-07-31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719360" y="6455880"/>
            <a:ext cx="278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550360" y="6400440"/>
            <a:ext cx="512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EE39-54FF-4162-BBF1-43DE83D07F04}" type="slidenum">
              <a:rPr b="1" lang="sv-SE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226280" y="727200"/>
            <a:ext cx="1542960" cy="0"/>
          </a:xfrm>
          <a:prstGeom prst="line">
            <a:avLst/>
          </a:prstGeom>
          <a:ln w="9360">
            <a:solidFill>
              <a:srgbClr val="2da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20440" y="1269720"/>
            <a:ext cx="70722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afd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dafd6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3817800"/>
            <a:ext cx="9144000" cy="2617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73080" y="6455880"/>
            <a:ext cx="125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353F-EE7F-4743-8B97-228F385AB562}" type="datetime">
              <a:rPr b="1" lang="sv-SE" sz="700" spc="-1" strike="noStrike">
                <a:solidFill>
                  <a:srgbClr val="000000"/>
                </a:solidFill>
                <a:latin typeface="Times New Roman"/>
              </a:rPr>
              <a:t>26-07-31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719360" y="6455880"/>
            <a:ext cx="278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5989680" y="6455880"/>
            <a:ext cx="107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2118-5D78-4FB8-8FEA-5D556B51B1E5}" type="slidenum">
              <a:rPr b="1" lang="sv-SE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21560" y="324000"/>
            <a:ext cx="1081080" cy="422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7840" y="368280"/>
            <a:ext cx="219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EDISH AGENCY FOR ECONOM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D REGIONAL GROW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1640" y="1006560"/>
            <a:ext cx="8715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2230560"/>
            <a:ext cx="73054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0"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5680" algn="ctr">
              <a:spcBef>
                <a:spcPts val="374"/>
              </a:spcBef>
              <a:buClr>
                <a:srgbClr val="2dafd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44680" algn="ctr">
              <a:spcBef>
                <a:spcPts val="374"/>
              </a:spcBef>
              <a:buClr>
                <a:srgbClr val="2dafd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algn="ctr">
              <a:spcBef>
                <a:spcPts val="374"/>
              </a:spcBef>
              <a:buClr>
                <a:srgbClr val="2dafd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se/imgres?imgurl=http://rudenius.files.wordpress.com/2009/01/flagga2.jpg&amp;imgrefurl=http://rudenius.wordpress.com/2009/01/25/nationalsymboler-och-rdgrna-vnstern/&amp;usg=__SSywQYWuGZnGfCLywgTlz8ClO1Y=&amp;h=133&amp;w=200&amp;sz=7&amp;hl=sv&amp;start=57&amp;tbnid=7IAKdf5R9MPtZM:&amp;tbnh=69&amp;tbnw=104&amp;prev=/images%3Fq%3Dsvenska%2Bflaggan%26imgtype%3Dphoto%26as_st%3Dy%26gbv%3D2%26ndsp%3D18%26hl%3Dsv%26safe%3Doff%26sa%3DN%26start%3D54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s.google.se/imgres?imgurl=http://images2.sina.com/english/sports/p/2008/0826/U137P200T1D181856F14DT20080826030939.jpg&amp;imgrefurl=http://english.sina.com/sports/p/2008/0826/181856.html&amp;usg=__qX2DfH3Xu1RMiXolOvKd5K0oD1k=&amp;h=461&amp;w=300&amp;sz=41&amp;hl=sv&amp;start=72&amp;tbnid=uctGA3EDc7f8fM:&amp;tbnh=128&amp;tbnw=83&amp;prev=/images%3Fq%3Dhenrik%2Bstenson%26gbv%3D2%26ndsp%3D18%26hl%3Dsv%26safe%3Doff%26sa%3DN%26start%3D54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images.google.se/imgres?imgurl=http://www.thequoteblog.com/wp-content/uploads/2007/09/waynegretzky.jpeg&amp;imgrefurl=http://www.thequoteblog.com/wayne-gretzky-on-opportunities/&amp;usg=__4Wvt7lBuAsyFpyJmDQz1SrfiXdU=&amp;h=450&amp;w=299&amp;sz=16&amp;hl=sv&amp;start=17&amp;tbnid=p3IMCU8TdoST7M:&amp;tbnh=127&amp;tbnw=84&amp;prev=/images%3Fq%3Dwayne%2Bgretzky%26gbv%3D2%26hl%3Dsv%26safe%3Doff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images.google.se/imgres?imgurl=http://gfx.aftonbladet-cdn.se/multimedia/archive/00067/NYHETER-20s12joggar__67844w.jpg&amp;imgrefurl=http://www.aftonbladet.se/nyheter/article123246.ab&amp;usg=__vGmgAlclsOfcyS7Fmzqd0tT4OfA=&amp;h=536&amp;w=368&amp;sz=29&amp;hl=sv&amp;start=9&amp;tbnid=UVB29cV4PpHdTM:&amp;tbnh=132&amp;tbnw=91&amp;prev=/images%3Fq%3Djoggare%26gbv%3D2%26ndsp%3D18%26hl%3Dsv%26safe%3Doff%26sa%3DN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images.google.se/imgres?imgurl=http://www.freefoto.com/images/13/51/13_51_51---Painter-Painting-a-house_web.jpg&amp;imgrefurl=http://www.freefoto.com/preview/13-51-51%3Fffid%3D13-51-51%26k%3DPainter%2BPainting%2Ba%2Bhouse&amp;usg=__4fbshFkdS0k5uD3LIQ4dE8BtUAo=&amp;h=600&amp;w=400&amp;sz=92&amp;hl=sv&amp;start=2&amp;tbnid=BhwRSBvNoymusM:&amp;tbnh=135&amp;tbnw=90&amp;prev=/images%3Fq%3Dpainter%26gbv%3D2%26hl%3Dsv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images.google.se/imgres?imgurl=http://www.buytaert.net/cache/images-miscellaneous-2006-eye-700x700.jpg&amp;imgrefurl=http://buytaert.net/album/miscellaneous-2006/eye&amp;usg=__BVQMU0c7mcHkf1s0BG3BExniACk=&amp;h=467&amp;w=700&amp;sz=353&amp;hl=sv&amp;start=9&amp;tbnid=YEuoiuAFqIeBQM:&amp;tbnh=93&amp;tbnw=140&amp;prev=/images%3Fq%3Deye%26gbv%3D2%26hl%3Dsv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images.google.se/imgres?imgurl=http://img27.picoodle.com/img/img27/4/6/2/f_thumbsupm_6ca3cf7.jpg&amp;imgrefurl=http://www.picoodle.com/view.php%3Fimg%3D/4/6/2/f_thumbsupm_6ca3cf7.jpg%26srv%3Dimg27&amp;usg=__U7clwFh3UuOYKNf8PS6PXAKAJwk=&amp;h=346&amp;w=347&amp;sz=69&amp;hl=sv&amp;start=85&amp;tbnid=UMKeKQ04j6lNeM:&amp;tbnh=120&amp;tbnw=120&amp;prev=/images%3Fq%3Dthumbs%2Bup%26gbv%3D2%26ndsp%3D18%26hl%3Dsv%26sa%3DN%26start%3D72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images.google.se/imgres?imgurl=http://www.fpm-group.com/images/send-email.jpg&amp;imgrefurl=http://www.fpm-group.com/htmlpages/FPMlocations.html&amp;usg=__InDBGAqIJYchjdZDmGTOhbilVto=&amp;h=320&amp;w=409&amp;sz=5&amp;hl=sv&amp;start=1&amp;tbnid=2Jom02aAryk24M:&amp;tbnh=98&amp;tbnw=125&amp;prev=/images%3Fq%3Dsend%2Bmail%26gbv%3D2%26hl%3Dsv%26safe%3Doff" TargetMode="External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20440" y="1269720"/>
            <a:ext cx="70722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2dafd6"/>
                </a:solidFill>
                <a:latin typeface="Arial"/>
              </a:rPr>
              <a:t>First Level Control</a:t>
            </a:r>
            <a:endParaRPr b="1" lang="en-US" sz="36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20440" y="2715840"/>
            <a:ext cx="70722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Håkan Flykt, Sw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87800" y="2416320"/>
            <a:ext cx="990720" cy="65700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6799320" y="2422440"/>
            <a:ext cx="1217520" cy="1177920"/>
            <a:chOff x="6799320" y="2422440"/>
            <a:chExt cx="1217520" cy="117792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6799320" y="2422440"/>
              <a:ext cx="121752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012800" y="2606760"/>
              <a:ext cx="78624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45960">
              <a:solidFill>
                <a:srgbClr val="ff0000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66840" y="210960"/>
            <a:ext cx="6710400" cy="64929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40440" y="1231920"/>
            <a:ext cx="4342320" cy="441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23800">
            <a:solidFill>
              <a:srgbClr val="ff0000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61040" y="2151000"/>
            <a:ext cx="1792440" cy="238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E7DF-396E-427E-AC16-8CDA5FBA22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About me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1000" y="1263600"/>
            <a:ext cx="37242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5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ler since Sept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tr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87520" y="2782800"/>
            <a:ext cx="5212800" cy="677160"/>
            <a:chOff x="587520" y="2782800"/>
            <a:chExt cx="5212800" cy="677160"/>
          </a:xfrm>
        </p:grpSpPr>
        <p:sp>
          <p:nvSpPr>
            <p:cNvPr id="101" name=""/>
            <p:cNvSpPr/>
            <p:nvPr/>
          </p:nvSpPr>
          <p:spPr>
            <a:xfrm>
              <a:off x="2315880" y="2788200"/>
              <a:ext cx="171180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3399ff"/>
                  </a:solidFill>
                  <a:latin typeface="Arial"/>
                </a:rPr>
                <a:t>Edvin,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7520" y="2782800"/>
              <a:ext cx="169704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3300"/>
                  </a:solidFill>
                  <a:latin typeface="Arial"/>
                </a:rPr>
                <a:t>Kick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75920" y="2793960"/>
              <a:ext cx="172440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990099"/>
                  </a:solidFill>
                  <a:latin typeface="Arial"/>
                </a:rPr>
                <a:t>Nova,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10480" y="1946160"/>
            <a:ext cx="2116080" cy="1273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3333ff">
                <a:alpha val="50000"/>
              </a:srgbClr>
            </a:outerShdw>
          </a:effectLst>
        </p:spPr>
      </p:pic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33920" y="4572000"/>
            <a:ext cx="1024200" cy="1581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3333ff">
                <a:alpha val="50000"/>
              </a:srgbClr>
            </a:outerShdw>
          </a:effectLst>
        </p:spPr>
      </p:pic>
      <p:pic>
        <p:nvPicPr>
          <p:cNvPr id="10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08240" y="4959360"/>
            <a:ext cx="1052640" cy="1592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3333ff">
                <a:alpha val="50000"/>
              </a:srgbClr>
            </a:outerShdw>
          </a:effectLst>
        </p:spPr>
      </p:pic>
      <p:pic>
        <p:nvPicPr>
          <p:cNvPr id="10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42160" y="3668760"/>
            <a:ext cx="1096920" cy="1590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3333ff">
                <a:alpha val="50000"/>
              </a:srgbClr>
            </a:outerShdw>
          </a:effectLst>
        </p:spPr>
      </p:pic>
      <p:pic>
        <p:nvPicPr>
          <p:cNvPr id="108" name="" descr="">
            <a:hlinkClick r:id="rId8"/>
          </p:cNvPr>
          <p:cNvPicPr/>
          <p:nvPr/>
        </p:nvPicPr>
        <p:blipFill>
          <a:blip r:embed="rId9"/>
          <a:srcRect l="15582" t="11114" r="0" b="0"/>
          <a:stretch/>
        </p:blipFill>
        <p:spPr>
          <a:xfrm>
            <a:off x="552600" y="4962600"/>
            <a:ext cx="992160" cy="1565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3333ff">
                <a:alpha val="50000"/>
              </a:srgbClr>
            </a:outerShdw>
          </a:effectLst>
        </p:spPr>
      </p:pic>
      <p:pic>
        <p:nvPicPr>
          <p:cNvPr id="109" name="" descr=""/>
          <p:cNvPicPr/>
          <p:nvPr/>
        </p:nvPicPr>
        <p:blipFill>
          <a:blip r:embed="rId10"/>
          <a:stretch/>
        </p:blipFill>
        <p:spPr>
          <a:xfrm>
            <a:off x="3865680" y="4984920"/>
            <a:ext cx="1341360" cy="1512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3333ff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A82-6043-4551-83F4-AB984C3B30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42600" cy="643572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919-971D-437C-8978-BB093F9655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28880" y="1074600"/>
            <a:ext cx="2597400" cy="5645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Tillväxtverket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1360" y="1263240"/>
            <a:ext cx="82612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offices in 9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 office in Stockhol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Östersund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503440" y="3539880"/>
            <a:ext cx="2097000" cy="1244520"/>
          </a:xfrm>
          <a:prstGeom prst="line">
            <a:avLst/>
          </a:prstGeom>
          <a:ln w="28440">
            <a:solidFill>
              <a:srgbClr val="006e88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23708" t="3876" r="3902" b="12125"/>
          <a:stretch/>
        </p:blipFill>
        <p:spPr>
          <a:xfrm>
            <a:off x="6905520" y="2689200"/>
            <a:ext cx="1917720" cy="2832120"/>
          </a:xfrm>
          <a:prstGeom prst="rect">
            <a:avLst/>
          </a:prstGeom>
          <a:ln w="9360">
            <a:solidFill>
              <a:srgbClr val="8a918f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5970600" y="1322280"/>
            <a:ext cx="1951200" cy="164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605480" y="4130280"/>
            <a:ext cx="3171600" cy="2446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43F-7936-46CC-B170-4CDF82506A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First Level Control   -  workload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1000" y="1263240"/>
            <a:ext cx="395460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4 contro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8 ETC-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200 swedish project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2 reporting periods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400 deskchecks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On-the-spot-ch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Weekly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formation /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Our own training and cou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Vacation/Holidays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892680" y="3787920"/>
            <a:ext cx="3895560" cy="3081240"/>
            <a:chOff x="3892680" y="3787920"/>
            <a:chExt cx="3895560" cy="308124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5184720" y="3787920"/>
              <a:ext cx="2603520" cy="2522520"/>
            </a:xfrm>
            <a:prstGeom prst="rect">
              <a:avLst/>
            </a:prstGeom>
            <a:ln w="9360">
              <a:solidFill>
                <a:srgbClr val="996600"/>
              </a:solidFill>
              <a:miter/>
            </a:ln>
            <a:effectLst>
              <a:outerShdw dist="107932" dir="2700000" blurRad="0" rotWithShape="0">
                <a:srgbClr val="996600">
                  <a:alpha val="50000"/>
                </a:srgbClr>
              </a:outerShdw>
            </a:effectLst>
          </p:spPr>
        </p:pic>
        <p:pic>
          <p:nvPicPr>
            <p:cNvPr id="122" name="" descr=""/>
            <p:cNvPicPr/>
            <p:nvPr/>
          </p:nvPicPr>
          <p:blipFill>
            <a:blip r:embed="rId2"/>
            <a:srcRect l="0" t="0" r="26410" b="0"/>
            <a:stretch/>
          </p:blipFill>
          <p:spPr>
            <a:xfrm>
              <a:off x="3892680" y="5119920"/>
              <a:ext cx="128736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 rot="21363600">
              <a:off x="4173480" y="6586560"/>
              <a:ext cx="493920" cy="185760"/>
            </a:xfrm>
            <a:prstGeom prst="rect">
              <a:avLst/>
            </a:prstGeom>
            <a:solidFill>
              <a:srgbClr val="8a9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000" spc="-1" strike="noStrike">
                  <a:solidFill>
                    <a:srgbClr val="ffff00"/>
                  </a:solidFill>
                  <a:latin typeface="Arial"/>
                </a:rPr>
                <a:t>F L 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77C-B553-4E97-AB4F-36B7D05678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Good practice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1360" y="1263240"/>
            <a:ext cx="405432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ct val="8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Contra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Progress Re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Budg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Accoun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List of expendi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Equip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Overhe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Periodic Re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FLC Check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Exchange R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Other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ty of Karlstad  - SAWA - North Sea Re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960" y="1263600"/>
            <a:ext cx="43304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reative Growth - Interreg I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400" spc="-1" strike="noStrike">
                <a:solidFill>
                  <a:srgbClr val="000000"/>
                </a:solidFill>
                <a:latin typeface="Arial"/>
              </a:rPr>
              <a:t>Eva Björklund, swedish L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2000" y="2868480"/>
            <a:ext cx="1490400" cy="2146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84920" y="2325600"/>
            <a:ext cx="1333440" cy="885960"/>
          </a:xfrm>
          <a:prstGeom prst="rect">
            <a:avLst/>
          </a:prstGeom>
          <a:ln w="9360">
            <a:solidFill>
              <a:srgbClr val="8a918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9" name=""/>
          <p:cNvSpPr/>
          <p:nvPr/>
        </p:nvSpPr>
        <p:spPr>
          <a:xfrm>
            <a:off x="4572000" y="1003320"/>
            <a:ext cx="0" cy="585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40360" y="1974960"/>
            <a:ext cx="1827360" cy="1827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477120" y="2311560"/>
            <a:ext cx="684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83160" y="3801960"/>
            <a:ext cx="459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14840" y="4095720"/>
            <a:ext cx="4054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8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67400" y="4394160"/>
            <a:ext cx="1190520" cy="933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4730760" y="5208480"/>
            <a:ext cx="1111320" cy="833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4782960" y="6093000"/>
            <a:ext cx="900360" cy="67464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5943960" y="4091040"/>
            <a:ext cx="2546640" cy="2512800"/>
            <a:chOff x="5943960" y="4091040"/>
            <a:chExt cx="2546640" cy="2512800"/>
          </a:xfrm>
        </p:grpSpPr>
        <p:sp>
          <p:nvSpPr>
            <p:cNvPr id="138" name="_s67639"/>
            <p:cNvSpPr/>
            <p:nvPr/>
          </p:nvSpPr>
          <p:spPr>
            <a:xfrm>
              <a:off x="6706800" y="4448520"/>
              <a:ext cx="1020600" cy="1020600"/>
            </a:xfrm>
            <a:prstGeom prst="ellipse">
              <a:avLst/>
            </a:prstGeom>
            <a:solidFill>
              <a:srgbClr val="2dafd6">
                <a:alpha val="50000"/>
              </a:srgbClr>
            </a:solidFill>
            <a:ln w="4680">
              <a:solidFill>
                <a:srgbClr val="2daf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67635"/>
            <p:cNvSpPr/>
            <p:nvPr/>
          </p:nvSpPr>
          <p:spPr>
            <a:xfrm>
              <a:off x="7081200" y="4091040"/>
              <a:ext cx="2721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9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67640"/>
            <p:cNvSpPr/>
            <p:nvPr/>
          </p:nvSpPr>
          <p:spPr>
            <a:xfrm>
              <a:off x="7095240" y="4836960"/>
              <a:ext cx="1020960" cy="1020960"/>
            </a:xfrm>
            <a:prstGeom prst="ellipse">
              <a:avLst/>
            </a:prstGeom>
            <a:solidFill>
              <a:srgbClr val="8a918f">
                <a:alpha val="50000"/>
              </a:srgbClr>
            </a:solidFill>
            <a:ln w="4680">
              <a:solidFill>
                <a:srgbClr val="8a91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67636"/>
            <p:cNvSpPr/>
            <p:nvPr/>
          </p:nvSpPr>
          <p:spPr>
            <a:xfrm>
              <a:off x="8218440" y="5219640"/>
              <a:ext cx="2721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900" spc="-1" strike="noStrike">
                  <a:solidFill>
                    <a:srgbClr val="000000"/>
                  </a:solidFill>
                  <a:latin typeface="Arial"/>
                </a:rPr>
                <a:t>FL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67641"/>
            <p:cNvSpPr/>
            <p:nvPr/>
          </p:nvSpPr>
          <p:spPr>
            <a:xfrm>
              <a:off x="6706800" y="5225400"/>
              <a:ext cx="1020600" cy="1020600"/>
            </a:xfrm>
            <a:prstGeom prst="ellipse">
              <a:avLst/>
            </a:prstGeom>
            <a:solidFill>
              <a:srgbClr val="d0cfce">
                <a:alpha val="50000"/>
              </a:srgbClr>
            </a:solidFill>
            <a:ln w="4680">
              <a:solidFill>
                <a:srgbClr val="d0cf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67638"/>
            <p:cNvSpPr/>
            <p:nvPr/>
          </p:nvSpPr>
          <p:spPr>
            <a:xfrm>
              <a:off x="7081200" y="6348600"/>
              <a:ext cx="2721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900" spc="-1" strike="noStrike">
                  <a:solidFill>
                    <a:srgbClr val="000000"/>
                  </a:solidFill>
                  <a:latin typeface="Arial"/>
                </a:rPr>
                <a:t>JT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67642"/>
            <p:cNvSpPr/>
            <p:nvPr/>
          </p:nvSpPr>
          <p:spPr>
            <a:xfrm>
              <a:off x="6318000" y="4836960"/>
              <a:ext cx="1020960" cy="1020960"/>
            </a:xfrm>
            <a:prstGeom prst="ellipse">
              <a:avLst/>
            </a:prstGeom>
            <a:solidFill>
              <a:srgbClr val="8a918f">
                <a:alpha val="50000"/>
              </a:srgbClr>
            </a:solidFill>
            <a:ln w="4680">
              <a:solidFill>
                <a:srgbClr val="8a91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67637"/>
            <p:cNvSpPr/>
            <p:nvPr/>
          </p:nvSpPr>
          <p:spPr>
            <a:xfrm>
              <a:off x="5943960" y="5219640"/>
              <a:ext cx="2721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900" spc="-1" strike="noStrike">
                  <a:solidFill>
                    <a:srgbClr val="000000"/>
                  </a:solidFill>
                  <a:latin typeface="Arial"/>
                </a:rPr>
                <a:t>L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1087-A157-4A91-9662-BBA1AF1233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General problems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1360" y="1263240"/>
            <a:ext cx="82612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95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Late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Missing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Lack of communication/information </a:t>
            </a:r>
            <a:br>
              <a:rPr sz="2000"/>
            </a:b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LeadPartner </a:t>
            </a:r>
            <a:r>
              <a:rPr b="1" lang="sv-S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 Project 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Swedish FLC works in several programs which means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lnSpc>
                <a:spcPct val="90000"/>
              </a:lnSpc>
              <a:spcAft>
                <a:spcPts val="425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lnSpc>
                <a:spcPct val="90000"/>
              </a:lnSpc>
              <a:spcAft>
                <a:spcPts val="425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ecklis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lnSpc>
                <a:spcPct val="90000"/>
              </a:lnSpc>
              <a:spcAft>
                <a:spcPts val="425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outin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lnSpc>
                <a:spcPct val="90000"/>
              </a:lnSpc>
              <a:spcAft>
                <a:spcPts val="425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ype of cos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lnSpc>
                <a:spcPct val="90000"/>
              </a:lnSpc>
              <a:spcAft>
                <a:spcPts val="425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ype of proje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lnSpc>
                <a:spcPct val="90000"/>
              </a:lnSpc>
              <a:spcAft>
                <a:spcPts val="425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tc etc etc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200560" y="1809720"/>
            <a:ext cx="2791080" cy="1851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49" name=""/>
          <p:cNvGrpSpPr/>
          <p:nvPr/>
        </p:nvGrpSpPr>
        <p:grpSpPr>
          <a:xfrm>
            <a:off x="3338640" y="4518000"/>
            <a:ext cx="1577880" cy="1533240"/>
            <a:chOff x="3338640" y="4518000"/>
            <a:chExt cx="1577880" cy="1533240"/>
          </a:xfrm>
        </p:grpSpPr>
        <p:sp>
          <p:nvSpPr>
            <p:cNvPr id="150" name=""/>
            <p:cNvSpPr/>
            <p:nvPr/>
          </p:nvSpPr>
          <p:spPr>
            <a:xfrm>
              <a:off x="3775320" y="4518000"/>
              <a:ext cx="519480" cy="716760"/>
            </a:xfrm>
            <a:prstGeom prst="rect">
              <a:avLst/>
            </a:prstGeom>
            <a:solidFill>
              <a:srgbClr val="d0cfce"/>
            </a:solidFill>
            <a:ln w="9360">
              <a:solidFill>
                <a:srgbClr val="8a918f"/>
              </a:solidFill>
              <a:miter/>
            </a:ln>
            <a:effectLst>
              <a:outerShdw dist="107932" dir="2700000" blurRad="0" rotWithShape="0">
                <a:srgbClr val="8a918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97040" y="5162040"/>
              <a:ext cx="519480" cy="716760"/>
            </a:xfrm>
            <a:prstGeom prst="rect">
              <a:avLst/>
            </a:prstGeom>
            <a:solidFill>
              <a:srgbClr val="d0cfce"/>
            </a:solidFill>
            <a:ln w="9360">
              <a:solidFill>
                <a:srgbClr val="8a918f"/>
              </a:solidFill>
              <a:miter/>
            </a:ln>
            <a:effectLst>
              <a:outerShdw dist="107932" dir="2700000" blurRad="0" rotWithShape="0">
                <a:srgbClr val="8a918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8640" y="5334480"/>
              <a:ext cx="519480" cy="716760"/>
            </a:xfrm>
            <a:prstGeom prst="rect">
              <a:avLst/>
            </a:prstGeom>
            <a:solidFill>
              <a:srgbClr val="d0cfce"/>
            </a:solidFill>
            <a:ln w="9360">
              <a:solidFill>
                <a:srgbClr val="8a918f"/>
              </a:solidFill>
              <a:miter/>
            </a:ln>
            <a:effectLst>
              <a:outerShdw dist="107932" dir="2700000" blurRad="0" rotWithShape="0">
                <a:srgbClr val="8a918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17080" y="5197680"/>
              <a:ext cx="605520" cy="406800"/>
            </a:xfrm>
            <a:custGeom>
              <a:avLst/>
              <a:gdLst>
                <a:gd name="textAreaLeft" fmla="*/ 0 w 605520"/>
                <a:gd name="textAreaRight" fmla="*/ 605880 w 605520"/>
                <a:gd name="textAreaTop" fmla="*/ 0 h 406800"/>
                <a:gd name="textAreaBottom" fmla="*/ 407160 h 40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5100" y="4334"/>
                  </a:lnTo>
                  <a:lnTo>
                    <a:pt x="13000" y="4334"/>
                  </a:lnTo>
                  <a:lnTo>
                    <a:pt x="13000" y="8600"/>
                  </a:lnTo>
                  <a:lnTo>
                    <a:pt x="17266" y="8600"/>
                  </a:lnTo>
                  <a:lnTo>
                    <a:pt x="17266" y="6500"/>
                  </a:lnTo>
                  <a:lnTo>
                    <a:pt x="21600" y="10800"/>
                  </a:lnTo>
                  <a:lnTo>
                    <a:pt x="17266" y="15100"/>
                  </a:lnTo>
                  <a:lnTo>
                    <a:pt x="17266" y="13000"/>
                  </a:lnTo>
                  <a:lnTo>
                    <a:pt x="4334" y="13000"/>
                  </a:lnTo>
                  <a:lnTo>
                    <a:pt x="4334" y="15100"/>
                  </a:lnTo>
                  <a:lnTo>
                    <a:pt x="0" y="10800"/>
                  </a:lnTo>
                  <a:lnTo>
                    <a:pt x="4334" y="6500"/>
                  </a:lnTo>
                  <a:lnTo>
                    <a:pt x="4334" y="8600"/>
                  </a:lnTo>
                  <a:lnTo>
                    <a:pt x="8600" y="8600"/>
                  </a:lnTo>
                  <a:lnTo>
                    <a:pt x="8600" y="4334"/>
                  </a:lnTo>
                  <a:lnTo>
                    <a:pt x="6500" y="4334"/>
                  </a:lnTo>
                  <a:close/>
                </a:path>
              </a:pathLst>
            </a:custGeom>
            <a:solidFill>
              <a:srgbClr val="006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7AFF-C441-4897-9822-98B7CAA202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dafd6"/>
                                      </p:to>
                                    </p:animClr>
                                    <p:animClr clrSpc="rgb">
                                      <p:cBhvr>
                                        <p:cTn id="224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dafd6"/>
                                      </p:to>
                                    </p:animClr>
                                    <p:set>
                                      <p:cBhvr>
                                        <p:cTn id="225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Errors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1360" y="1263240"/>
            <a:ext cx="82612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Tip 60 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spcAft>
                <a:spcPts val="1188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000000"/>
                </a:solidFill>
                <a:latin typeface="Arial"/>
              </a:rPr>
              <a:t>Restaurant recei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0"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spcAft>
                <a:spcPts val="1188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000000"/>
                </a:solidFill>
                <a:latin typeface="Arial"/>
              </a:rPr>
              <a:t>miss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0"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Zero in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spcAft>
                <a:spcPts val="1188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000000"/>
                </a:solidFill>
                <a:latin typeface="Arial"/>
              </a:rPr>
              <a:t>Used budget line External expertise  -  but budget = ZER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F8EE-A013-4353-A4F6-6A2AB63082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440" y="171000"/>
            <a:ext cx="651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Tools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1000" y="1085760"/>
            <a:ext cx="541980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5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Information folder for swedish partners</a:t>
            </a:r>
            <a:br>
              <a:rPr sz="1800"/>
            </a:br>
            <a:r>
              <a:rPr b="0" i="1" lang="sv-SE" sz="1400" spc="-1" strike="noStrike">
                <a:solidFill>
                  <a:srgbClr val="000000"/>
                </a:solidFill>
                <a:latin typeface="Arial"/>
              </a:rPr>
              <a:t>(available on our webs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spcAft>
                <a:spcPts val="374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eneral information in swedi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spcAft>
                <a:spcPts val="374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recieved document is a public docu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spcAft>
                <a:spcPts val="374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hat to send to FL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spcAft>
                <a:spcPts val="374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ime limit - 30 days from complete documen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spcAft>
                <a:spcPts val="374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ligible cos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spcAft>
                <a:spcPts val="374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tc etc et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22533" t="18679" r="38281" b="8719"/>
          <a:stretch/>
        </p:blipFill>
        <p:spPr>
          <a:xfrm rot="612000">
            <a:off x="6207120" y="1225080"/>
            <a:ext cx="1446120" cy="2041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a918f">
                <a:alpha val="50000"/>
              </a:srgbClr>
            </a:outerShdw>
          </a:effectLst>
        </p:spPr>
      </p:pic>
      <p:graphicFrame>
        <p:nvGraphicFramePr>
          <p:cNvPr id="159" name=""/>
          <p:cNvGraphicFramePr/>
          <p:nvPr/>
        </p:nvGraphicFramePr>
        <p:xfrm>
          <a:off x="4587840" y="5554800"/>
          <a:ext cx="1076400" cy="841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87840" y="5554800"/>
                    <a:ext cx="10764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 flipV="1">
            <a:off x="442800" y="3512880"/>
            <a:ext cx="8701200" cy="11160"/>
          </a:xfrm>
          <a:prstGeom prst="line">
            <a:avLst/>
          </a:prstGeom>
          <a:ln w="9360">
            <a:solidFill>
              <a:srgbClr val="8a91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1640" y="5235480"/>
            <a:ext cx="8736120" cy="0"/>
          </a:xfrm>
          <a:prstGeom prst="line">
            <a:avLst/>
          </a:prstGeom>
          <a:ln w="9360">
            <a:solidFill>
              <a:srgbClr val="8a91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715000" y="3632040"/>
            <a:ext cx="1827360" cy="14907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rcRect l="0" t="14229" r="19344" b="5269"/>
          <a:stretch/>
        </p:blipFill>
        <p:spPr>
          <a:xfrm>
            <a:off x="6200640" y="5402160"/>
            <a:ext cx="1473480" cy="1119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28760" y="5361120"/>
            <a:ext cx="54194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5000"/>
              </a:lnSpc>
              <a:spcAft>
                <a:spcPts val="45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ner Follow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spcAft>
                <a:spcPts val="374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spcAft>
                <a:spcPts val="374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sts (cumulated &amp; per period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spcAft>
                <a:spcPts val="374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6680" y="3608280"/>
            <a:ext cx="541944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5000"/>
              </a:lnSpc>
              <a:spcAft>
                <a:spcPts val="45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own general ETC Check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spcAft>
                <a:spcPts val="374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orks for all progra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spcAft>
                <a:spcPts val="374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oks the same every ti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spcAft>
                <a:spcPts val="374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ll programs minimum requir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spcAft>
                <a:spcPts val="374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mplified questions, explanations on separate she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77D-8856-4D23-A950-3D543F445C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8:35:37Z</dcterms:created>
  <dc:creator>Håkan Flykt</dc:creator>
  <dc:description>Skapad: Mars 2009 i MS Ppt 2003
Av: Carin Ländström, 08-556 014 30
Emanuel Identity Manuals AB</dc:description>
  <cp:keywords>PowerPointmall 2009-03-25</cp:keywords>
  <dc:language>en-US</dc:language>
  <cp:lastModifiedBy>Håkan Flykt</cp:lastModifiedBy>
  <dcterms:modified xsi:type="dcterms:W3CDTF">2009-06-09T12:03:39Z</dcterms:modified>
  <cp:revision>112</cp:revision>
  <dc:subject/>
  <dc:title>First Level Control</dc:title>
</cp:coreProperties>
</file>