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23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4330-FFE7-4B8B-87E3-8FAC305565BC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3048120" y="6381720"/>
            <a:ext cx="5638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19178"/>
                </a:solidFill>
                <a:latin typeface="Arial"/>
              </a:rPr>
              <a:t>Brussels, 11 and 12 June 2009</a:t>
            </a:r>
            <a:endParaRPr b="1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7" name="Picture 27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458200" y="6400800"/>
            <a:ext cx="5824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8" descr="DD80:Users:csauvage:Documents: OPERA MEUS:DOSSIERS EN COURS:INTERREG IV C:EXE:PPT:medias:images:onglet_all_03.gif"/>
          <p:cNvPicPr/>
          <p:nvPr/>
        </p:nvPicPr>
        <p:blipFill>
          <a:blip r:embed="rId2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7" descr="DD80:Users:csauvage:Documents: OPERA MEUS:DOSSIERS EN COURS:INTERREG IV C:EXE:PPT:medias:images:onglet_all_0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47" name="Picture 24" descr="DD80:Users:csauvage:Documents: OPERA MEUS:DOSSIERS EN COURS:INTERREG IV C:EXE:PPT:medias:INTERREG_IVC_LOGO.png"/>
          <p:cNvPicPr/>
          <p:nvPr/>
        </p:nvPicPr>
        <p:blipFill>
          <a:blip r:embed="rId4"/>
          <a:stretch/>
        </p:blipFill>
        <p:spPr>
          <a:xfrm>
            <a:off x="457200" y="533520"/>
            <a:ext cx="4648320" cy="1620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6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89E0-E2EC-4DBF-BABA-366A852FCE2C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49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50" name="Text Box 31"/>
          <p:cNvSpPr/>
          <p:nvPr/>
        </p:nvSpPr>
        <p:spPr>
          <a:xfrm>
            <a:off x="3048120" y="6381720"/>
            <a:ext cx="5638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19178"/>
                </a:solidFill>
                <a:latin typeface="Arial"/>
              </a:rPr>
              <a:t>Brussels, 11 and 12 June 2009</a:t>
            </a:r>
            <a:endParaRPr b="1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grpSp>
        <p:nvGrpSpPr>
          <p:cNvPr id="51" name="Group 38"/>
          <p:cNvGrpSpPr/>
          <p:nvPr/>
        </p:nvGrpSpPr>
        <p:grpSpPr>
          <a:xfrm>
            <a:off x="6794640" y="1384200"/>
            <a:ext cx="2349360" cy="849600"/>
            <a:chOff x="6794640" y="1384200"/>
            <a:chExt cx="2349360" cy="849600"/>
          </a:xfrm>
        </p:grpSpPr>
        <p:pic>
          <p:nvPicPr>
            <p:cNvPr id="52" name="Picture 32" descr="DD80:Users:csauvage:Documents: OPERA MEUS:DOSSIERS EN COURS:INTERREG IV C:EXE:PPT:medias:Flag_EU.png"/>
            <p:cNvPicPr/>
            <p:nvPr/>
          </p:nvPicPr>
          <p:blipFill>
            <a:blip r:embed="rId5"/>
            <a:stretch/>
          </p:blipFill>
          <p:spPr>
            <a:xfrm>
              <a:off x="6872400" y="1384200"/>
              <a:ext cx="5968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3"/>
            <p:cNvSpPr/>
            <p:nvPr/>
          </p:nvSpPr>
          <p:spPr>
            <a:xfrm>
              <a:off x="6794640" y="1835280"/>
              <a:ext cx="234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EUROPEAN REGIONAL</a:t>
              </a:r>
              <a:endParaRPr b="1" lang="en-US" sz="1000" spc="-1" strike="noStrike">
                <a:solidFill>
                  <a:srgbClr val="00316e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DEVELOPMENT FUND</a:t>
              </a:r>
              <a:endParaRPr b="1" lang="en-US" sz="10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680" y="2432160"/>
            <a:ext cx="6553440" cy="645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16e"/>
                </a:solidFill>
                <a:latin typeface="Arial"/>
              </a:rPr>
              <a:t>Finance Semina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4114800"/>
            <a:ext cx="784872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External Expertise and Service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928880" y="4941720"/>
            <a:ext cx="68403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Petra Geitner, Senior Finance Officer, JTS </a:t>
            </a:r>
            <a:endParaRPr b="1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6012000" y="428760"/>
            <a:ext cx="313200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8000"/>
                </a:solidFill>
                <a:latin typeface="Arial"/>
              </a:rPr>
              <a:t>YES!!</a:t>
            </a:r>
            <a:endParaRPr b="1" lang="en-US" sz="36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16e"/>
                </a:solidFill>
                <a:latin typeface="Arial"/>
              </a:rPr>
              <a:t>Make sure specification corresponds to AF</a:t>
            </a:r>
            <a:endParaRPr b="1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16e"/>
                </a:solidFill>
                <a:latin typeface="Arial"/>
              </a:rPr>
              <a:t>Be as precise as possible! (kind of service, location, partner etc.)</a:t>
            </a:r>
            <a:endParaRPr b="1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16e"/>
                </a:solidFill>
                <a:latin typeface="Arial"/>
              </a:rPr>
              <a:t>In case of deviation from AF, provide justification. </a:t>
            </a:r>
            <a:endParaRPr b="1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16e"/>
                </a:solidFill>
                <a:latin typeface="Arial"/>
              </a:rPr>
              <a:t>Report the service in the right component! (see AF + activity description  in PR)</a:t>
            </a:r>
            <a:endParaRPr b="1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grpSp>
        <p:nvGrpSpPr>
          <p:cNvPr id="96" name="Group 5"/>
          <p:cNvGrpSpPr/>
          <p:nvPr/>
        </p:nvGrpSpPr>
        <p:grpSpPr>
          <a:xfrm>
            <a:off x="5500800" y="620640"/>
            <a:ext cx="1006200" cy="1055880"/>
            <a:chOff x="5500800" y="620640"/>
            <a:chExt cx="1006200" cy="1055880"/>
          </a:xfrm>
        </p:grpSpPr>
        <p:sp>
          <p:nvSpPr>
            <p:cNvPr id="97" name="AutoShape 6"/>
            <p:cNvSpPr/>
            <p:nvPr/>
          </p:nvSpPr>
          <p:spPr>
            <a:xfrm>
              <a:off x="5500800" y="620640"/>
              <a:ext cx="100620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5526000" y="650880"/>
              <a:ext cx="948960" cy="1000080"/>
            </a:xfrm>
            <a:prstGeom prst="pie">
              <a:avLst/>
            </a:prstGeom>
            <a:solidFill>
              <a:srgbClr val="df14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5506920" y="620640"/>
              <a:ext cx="999720" cy="10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5526000" y="650880"/>
              <a:ext cx="948960" cy="10000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5614920" y="692280"/>
              <a:ext cx="891720" cy="9493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5607000" y="1339920"/>
              <a:ext cx="63000" cy="4608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  <p:sp>
          <p:nvSpPr>
            <p:cNvPr id="103" name="Freeform 12"/>
            <p:cNvSpPr/>
            <p:nvPr/>
          </p:nvSpPr>
          <p:spPr>
            <a:xfrm>
              <a:off x="5640120" y="1374840"/>
              <a:ext cx="29880" cy="2700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</p:grpSp>
      <p:pic>
        <p:nvPicPr>
          <p:cNvPr id="104" name="Picture 17" descr=""/>
          <p:cNvPicPr/>
          <p:nvPr/>
        </p:nvPicPr>
        <p:blipFill>
          <a:blip r:embed="rId1"/>
          <a:stretch/>
        </p:blipFill>
        <p:spPr>
          <a:xfrm>
            <a:off x="214200" y="2246400"/>
            <a:ext cx="5786640" cy="29494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External Expertise and Services Co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5"/>
          <p:cNvSpPr/>
          <p:nvPr/>
        </p:nvSpPr>
        <p:spPr>
          <a:xfrm>
            <a:off x="1332000" y="4581360"/>
            <a:ext cx="93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External Expertise and Services Costs</a:t>
            </a:r>
            <a:endParaRPr b="1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8658360" cy="4413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2000160" y="3071880"/>
            <a:ext cx="6875640" cy="316908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3520" indent="-266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all expenses paid by the partners on the basis of</a:t>
            </a:r>
            <a:endParaRPr b="1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2" marL="1228680" indent="-228600">
              <a:lnSpc>
                <a:spcPct val="120000"/>
              </a:lnSpc>
              <a:spcBef>
                <a:spcPts val="499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16e"/>
                </a:solidFill>
                <a:latin typeface="Arial"/>
              </a:rPr>
              <a:t>Contracts/agreements (public procurement!)</a:t>
            </a:r>
            <a:endParaRPr b="1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2" marL="1228680" indent="-228600">
              <a:lnSpc>
                <a:spcPct val="120000"/>
              </a:lnSpc>
              <a:spcBef>
                <a:spcPts val="499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16e"/>
                </a:solidFill>
                <a:latin typeface="Arial"/>
              </a:rPr>
              <a:t>Invoices/requests for reimbursement</a:t>
            </a:r>
            <a:endParaRPr b="1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533520" indent="-266760"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316e"/>
                </a:solidFill>
                <a:latin typeface="Arial"/>
              </a:rPr>
              <a:t>to external providers</a:t>
            </a:r>
            <a:endParaRPr b="1" lang="en-US" sz="2100" spc="-1" strike="noStrike">
              <a:solidFill>
                <a:srgbClr val="00316e"/>
              </a:solidFill>
              <a:latin typeface="Times New Roman"/>
            </a:endParaRPr>
          </a:p>
          <a:p>
            <a:pPr lvl="1" marL="533520" indent="-266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external = anyone who is not employed by partner institutions</a:t>
            </a:r>
            <a:endParaRPr b="1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1" marL="533520" indent="-266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public procurement!</a:t>
            </a:r>
            <a:endParaRPr b="1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5"/>
          <p:cNvSpPr/>
          <p:nvPr/>
        </p:nvSpPr>
        <p:spPr>
          <a:xfrm>
            <a:off x="1332000" y="4581360"/>
            <a:ext cx="93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External Expertise and Services Costs</a:t>
            </a:r>
            <a:endParaRPr b="1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264960" y="1371600"/>
            <a:ext cx="8663040" cy="44146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2000160" y="3286080"/>
            <a:ext cx="6875640" cy="144000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3520" indent="-266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Brochures / publications / studies</a:t>
            </a:r>
            <a:endParaRPr b="1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2" marL="990720" indent="-266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ask for copy</a:t>
            </a:r>
            <a:endParaRPr b="1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2" marL="990720" indent="-266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information and publicity respected rules?</a:t>
            </a:r>
            <a:endParaRPr b="1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5"/>
          <p:cNvSpPr/>
          <p:nvPr/>
        </p:nvSpPr>
        <p:spPr>
          <a:xfrm>
            <a:off x="1332000" y="4581360"/>
            <a:ext cx="93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External Expertise and Services Costs</a:t>
            </a:r>
            <a:endParaRPr b="1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14200" y="1014480"/>
            <a:ext cx="8663040" cy="44146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2000160" y="4643280"/>
            <a:ext cx="6875640" cy="144000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3520" indent="-266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meetings / events / seminars</a:t>
            </a:r>
            <a:endParaRPr b="1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2" marL="990720" indent="-266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participation lists</a:t>
            </a:r>
            <a:endParaRPr b="1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2" marL="990720" indent="-266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minutes</a:t>
            </a:r>
            <a:endParaRPr b="1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1:42:20Z</dcterms:created>
  <dc:creator>SAUVAGE Christophe</dc:creator>
  <dc:description/>
  <dc:language>en-US</dc:language>
  <cp:lastModifiedBy>Petra</cp:lastModifiedBy>
  <cp:lastPrinted>2008-01-17T13:50:45Z</cp:lastPrinted>
  <dcterms:modified xsi:type="dcterms:W3CDTF">2009-06-08T12:55:55Z</dcterms:modified>
  <cp:revision>1234</cp:revision>
  <dc:subject/>
  <dc:title>PowerPoint Presentation INTERREG IVC</dc:title>
</cp:coreProperties>
</file>