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0D97-845C-4B60-BEBF-4DB6E461E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E570-BA03-4E5E-8AAC-BC442ADF32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E783-43C5-43C5-BE27-C1B5AF1D0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C7B-32D1-438A-9F94-7D74B8C14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9CE0-7CB1-493B-8BC0-A9A5AC98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4270-65A1-40A7-8122-65B0CB6F2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6E72-2365-4ED9-9F08-E725A03FE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D87E-28BF-4C69-89C8-0351A49C9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4C7E-975F-4D28-A0FC-F52D69875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012B-C911-436C-848E-6548BA3D9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449B-EA65-4DD4-80A3-89EF97A3A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AB04-B057-4F33-A594-3D557C597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6D06-A9CE-42B0-A6FF-2C01BD1B5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6349-8A9D-4EC5-B149-2EEDAAF7E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CDESSEAU\Bureau\fond vague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0FE4-343C-44E5-ABE2-A0324368AC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25146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152280" y="0"/>
          <a:ext cx="3200400" cy="131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0"/>
                    <a:ext cx="320040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47760" y="61718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ad partner semin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homas SPRIE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6 October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685800" y="2505240"/>
            <a:ext cx="7711920" cy="35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7000"/>
          </a:bodyPr>
          <a:p>
            <a:pPr lvl="1" marL="646200" indent="-248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</a:rPr>
              <a:t>A short introduction by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</a:rPr>
              <a:t>Managing Author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1. Who are w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2. What is a Managing Authority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Thomas SPRIET 11 June 2009, Bruss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Has created 3 JTSs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almost 50 employe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19 working in the INTERREG IVC JTS (Lille) + 10 working in the Information Poi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5192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at is a Managing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Authority ? (3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Thanks for your attention 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6828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T.Spriet@nordpasdecalais.f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6731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1192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The Région Nord Pas de Cala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4 Million inhabit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devolution process for 25 yea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Long experience of cooper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Maryland in the 80 ’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Senegal, Vietnam, Mali, Madagascar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Euroregion in the 90 ’s…. Germany, Poland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81480" y="228600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Managing Authority of 3 INTERREG programmes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rossbor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67920" y="1600200"/>
            <a:ext cx="64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 (2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0" y="2362320"/>
          <a:ext cx="5410080" cy="42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54100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5638680" y="5029200"/>
            <a:ext cx="2730600" cy="137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24480" y="685800"/>
            <a:ext cx="2667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64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 (3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3760" y="1915920"/>
            <a:ext cx="43498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nsnatio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" name="Picture 5" descr="northwesteurope2"/>
          <p:cNvPicPr/>
          <p:nvPr/>
        </p:nvPicPr>
        <p:blipFill>
          <a:blip r:embed="rId1"/>
          <a:stretch/>
        </p:blipFill>
        <p:spPr>
          <a:xfrm>
            <a:off x="304920" y="2286000"/>
            <a:ext cx="385920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95256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24480" y="685800"/>
            <a:ext cx="2667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64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 (4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9000" y="2362320"/>
            <a:ext cx="552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interregio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8" name="Picture 7" descr="Picture1.gif"/>
          <p:cNvPicPr/>
          <p:nvPr/>
        </p:nvPicPr>
        <p:blipFill>
          <a:blip r:embed="rId1"/>
          <a:stretch/>
        </p:blipFill>
        <p:spPr>
          <a:xfrm>
            <a:off x="0" y="2286000"/>
            <a:ext cx="476424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400200" cy="1352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24480" y="685800"/>
            <a:ext cx="2667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More than  € 800 mill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More than 10 % of the total amount of the objective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67920" y="1600200"/>
            <a:ext cx="64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 (5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7920" y="1600200"/>
            <a:ext cx="64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o are we ? (6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2666880"/>
            <a:ext cx="7772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We are building an Institute dedicated to European Territorial Co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http://www.nordpasdecalais.fr/europe/telechargement/2009/iect_en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Capit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09680" y="2870280"/>
            <a:ext cx="4569120" cy="3813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6708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at is a Managing Authority 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629400" y="1676520"/>
            <a:ext cx="4572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5200" y="1600200"/>
            <a:ext cx="6562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What is a Managing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rebuchet MS"/>
              </a:rPr>
              <a:t>Authority ? (2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041640"/>
            <a:ext cx="7772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In compliance with art 60 of 1083/2006 regulation, with 1828/2006 regulation and with the OPs, mainly reponsible for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Regularity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Efficiency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4:16:08Z</dcterms:created>
  <dc:creator>REGAN Claire</dc:creator>
  <dc:description/>
  <dc:language>en-US</dc:language>
  <cp:lastModifiedBy>TSPRIET</cp:lastModifiedBy>
  <cp:lastPrinted>2007-11-07T11:00:25Z</cp:lastPrinted>
  <dcterms:modified xsi:type="dcterms:W3CDTF">2009-06-08T11:36:31Z</dcterms:modified>
  <cp:revision>38</cp:revision>
  <dc:subject/>
  <dc:title>La coopération territoriale européenne</dc:title>
</cp:coreProperties>
</file>