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1"/>
          </p:nvPr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2"/>
          </p:nvPr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3"/>
          </p:nvPr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76B2-9B80-425C-8810-06CECB55E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1312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AEDD-157D-4682-89B4-AD163BBAFE44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" Target="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" Target=""/><Relationship Id="rId6" Type="http://schemas.openxmlformats.org/officeDocument/2006/relationships/image" Target="../media/image9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343080" indent="-343080" algn="r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343080" indent="-343080" algn="r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343080" indent="-343080" algn="r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343080" indent="-343080" algn="r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343080" indent="-343080" algn="r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343080" indent="-343080" algn="r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4" name="Picture 16" descr="DD80:Users:csauvage:Documents: OPERA MEUS:DOSSIERS EN COURS:INTERREG IV C:EXE:PPT:medias:INTERREG_IVC_LOGO_small.png"/>
          <p:cNvPicPr/>
          <p:nvPr/>
        </p:nvPicPr>
        <p:blipFill>
          <a:blip r:embed="rId6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sp>
        <p:nvSpPr>
          <p:cNvPr id="5" name="Text Box 22">
            <a:hlinkClick r:id="rId7" action="ppaction://hlinksldjump"/>
          </p:cNvPr>
          <p:cNvSpPr/>
          <p:nvPr/>
        </p:nvSpPr>
        <p:spPr>
          <a:xfrm>
            <a:off x="533520" y="656784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316e"/>
                </a:solidFill>
                <a:latin typeface="Arial"/>
              </a:rPr>
              <a:t>&gt; Contents</a:t>
            </a:r>
            <a:endParaRPr b="0" lang="en-US" sz="9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6" name="Text Box 23"/>
          <p:cNvSpPr/>
          <p:nvPr/>
        </p:nvSpPr>
        <p:spPr>
          <a:xfrm>
            <a:off x="7920" y="6553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B3EB-8323-422D-A727-CDABF395403E}" type="slidenum">
              <a:rPr b="0" lang="nl-BE" sz="1000" spc="-1" strike="noStrike">
                <a:solidFill>
                  <a:srgbClr val="00316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7" name="Text Box 26"/>
          <p:cNvSpPr/>
          <p:nvPr/>
        </p:nvSpPr>
        <p:spPr>
          <a:xfrm>
            <a:off x="3048120" y="6510240"/>
            <a:ext cx="56386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19178"/>
                </a:solidFill>
                <a:latin typeface="Arial"/>
              </a:rPr>
              <a:t>11 &amp; 12 June 2009, Financial Seminar,  Brussels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8" name="Picture 27" descr="DD80:Users:csauvage:Documents: OPERA MEUS:DOSSIERS EN COURS:INTERREG IV C:EXE:PPT:medias:Flag_EU.png"/>
          <p:cNvPicPr/>
          <p:nvPr/>
        </p:nvPicPr>
        <p:blipFill>
          <a:blip r:embed="rId8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8" descr="DD80:Users:csauvage:Documents: OPERA MEUS:DOSSIERS EN COURS:INTERREG IV C:EXE:PPT:medias:images:onglet_all_03.gif"/>
          <p:cNvPicPr/>
          <p:nvPr/>
        </p:nvPicPr>
        <p:blipFill>
          <a:blip r:embed="rId2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7" descr="DD80:Users:csauvage:Documents: OPERA MEUS:DOSSIERS EN COURS:INTERREG IV C:EXE:PPT:medias:images:onglet_all_01.gif"/>
          <p:cNvPicPr/>
          <p:nvPr/>
        </p:nvPicPr>
        <p:blipFill>
          <a:blip r:embed="rId3"/>
          <a:stretch/>
        </p:blipFill>
        <p:spPr>
          <a:xfrm>
            <a:off x="0" y="0"/>
            <a:ext cx="9144000" cy="18716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8"/>
          <p:cNvSpPr/>
          <p:nvPr/>
        </p:nvSpPr>
        <p:spPr>
          <a:xfrm>
            <a:off x="5791320" y="152280"/>
            <a:ext cx="2666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48" name="Picture 24" descr="DD80:Users:csauvage:Documents: OPERA MEUS:DOSSIERS EN COURS:INTERREG IV C:EXE:PPT:medias:INTERREG_IVC_LOGO.png"/>
          <p:cNvPicPr/>
          <p:nvPr/>
        </p:nvPicPr>
        <p:blipFill>
          <a:blip r:embed="rId4"/>
          <a:stretch/>
        </p:blipFill>
        <p:spPr>
          <a:xfrm>
            <a:off x="324000" y="617400"/>
            <a:ext cx="4155840" cy="14511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5">
            <a:hlinkClick r:id="rId5" action="ppaction://hlinksldjump"/>
          </p:cNvPr>
          <p:cNvSpPr/>
          <p:nvPr/>
        </p:nvSpPr>
        <p:spPr>
          <a:xfrm>
            <a:off x="533520" y="656784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316e"/>
                </a:solidFill>
                <a:latin typeface="Arial"/>
              </a:rPr>
              <a:t>&gt; Contents</a:t>
            </a:r>
            <a:endParaRPr b="0" lang="en-US" sz="9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50" name="Text Box 26"/>
          <p:cNvSpPr/>
          <p:nvPr/>
        </p:nvSpPr>
        <p:spPr>
          <a:xfrm>
            <a:off x="7920" y="6553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07FF-8274-40CF-9CF4-3108E2B30D68}" type="slidenum">
              <a:rPr b="0" lang="nl-BE" sz="1000" spc="-1" strike="noStrike">
                <a:solidFill>
                  <a:srgbClr val="00316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51" name="Text Box 29"/>
          <p:cNvSpPr/>
          <p:nvPr/>
        </p:nvSpPr>
        <p:spPr>
          <a:xfrm>
            <a:off x="2133720" y="5257800"/>
            <a:ext cx="419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52" name="Text Box 31"/>
          <p:cNvSpPr/>
          <p:nvPr/>
        </p:nvSpPr>
        <p:spPr>
          <a:xfrm>
            <a:off x="3048120" y="6510240"/>
            <a:ext cx="56386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19178"/>
                </a:solidFill>
                <a:latin typeface="Arial"/>
              </a:rPr>
              <a:t>11 &amp; 12 June 2009, Financial Seminar,  Brussels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grpSp>
        <p:nvGrpSpPr>
          <p:cNvPr id="53" name="Group 35"/>
          <p:cNvGrpSpPr/>
          <p:nvPr/>
        </p:nvGrpSpPr>
        <p:grpSpPr>
          <a:xfrm>
            <a:off x="6794640" y="1268280"/>
            <a:ext cx="2349360" cy="849600"/>
            <a:chOff x="6794640" y="1268280"/>
            <a:chExt cx="2349360" cy="849600"/>
          </a:xfrm>
        </p:grpSpPr>
        <p:pic>
          <p:nvPicPr>
            <p:cNvPr id="54" name="Picture 36" descr="DD80:Users:csauvage:Documents: OPERA MEUS:DOSSIERS EN COURS:INTERREG IV C:EXE:PPT:medias:Flag_EU.png"/>
            <p:cNvPicPr/>
            <p:nvPr/>
          </p:nvPicPr>
          <p:blipFill>
            <a:blip r:embed="rId6"/>
            <a:stretch/>
          </p:blipFill>
          <p:spPr>
            <a:xfrm>
              <a:off x="6872400" y="1268280"/>
              <a:ext cx="59688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37"/>
            <p:cNvSpPr/>
            <p:nvPr/>
          </p:nvSpPr>
          <p:spPr>
            <a:xfrm>
              <a:off x="6794640" y="1719360"/>
              <a:ext cx="2349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316e"/>
                  </a:solidFill>
                  <a:latin typeface="Arial"/>
                </a:rPr>
                <a:t>EUROPEAN REGIONAL</a:t>
              </a:r>
              <a:endParaRPr b="0" lang="en-US" sz="1000" spc="-1" strike="noStrike">
                <a:solidFill>
                  <a:srgbClr val="00316e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316e"/>
                  </a:solidFill>
                  <a:latin typeface="Arial"/>
                </a:rPr>
                <a:t>DEVELOPMENT FUND</a:t>
              </a:r>
              <a:endParaRPr b="0" lang="en-US" sz="1000" spc="-1" strike="noStrike">
                <a:solidFill>
                  <a:srgbClr val="00316e"/>
                </a:solidFill>
                <a:latin typeface="Times New Roman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343080" indent="-343080" algn="r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343080" indent="-343080" algn="r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343080" indent="-343080" algn="r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343080" indent="-343080" algn="r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343080" indent="-343080" algn="r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343080" indent="-343080" algn="r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hyperlink" Target="http://europa.eu/abc/symbols/emblem/download_en.htm" TargetMode="External"/><Relationship Id="rId4" Type="http://schemas.openxmlformats.org/officeDocument/2006/relationships/image" Target="../media/image15.png"/><Relationship Id="rId5" Type="http://schemas.openxmlformats.org/officeDocument/2006/relationships/image" Target="../media/image3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99760" y="2705040"/>
            <a:ext cx="7263000" cy="10778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16e"/>
                </a:solidFill>
                <a:latin typeface="Arial"/>
              </a:rPr>
              <a:t>Controlling IVC Projects – Information and public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4114800"/>
            <a:ext cx="7848720" cy="4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16e"/>
                </a:solidFill>
                <a:latin typeface="Arial"/>
              </a:rPr>
              <a:t>Katja Ecke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354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Information &amp; Publicity requirements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Legal basis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General principles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Points to remember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Technical guidelines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Tools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Information &amp; Publicity requirem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52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Legal basis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Commission regulation (EC) No 1828/2006 – articles 8 &amp; 9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« The </a:t>
            </a: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beneficiary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 shall be responsible for informing the public…about the assistance obtained from the Funds »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316e"/>
                </a:solidFill>
                <a:latin typeface="Arial"/>
              </a:rPr>
              <a:t>Subsidy Contract - article 7, 1-8 (!)</a:t>
            </a:r>
            <a:endParaRPr b="0" lang="en-US" sz="22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5: «...The project undertakes to send three (3) copies of any publicity and information material produced to the JTS...» (preferably together with progress report)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7" name="Arc 6"/>
          <p:cNvSpPr/>
          <p:nvPr/>
        </p:nvSpPr>
        <p:spPr>
          <a:xfrm>
            <a:off x="714240" y="3643200"/>
            <a:ext cx="2000520" cy="1357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08" name="Arc 7"/>
          <p:cNvSpPr/>
          <p:nvPr/>
        </p:nvSpPr>
        <p:spPr>
          <a:xfrm rot="16468800">
            <a:off x="1323000" y="4435560"/>
            <a:ext cx="1833480" cy="949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Information &amp; Publicity requirem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1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General Principles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Increase transparency and awareness of EU funds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550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Let the public know that EU money is being well spent!</a:t>
            </a:r>
            <a:endParaRPr b="0" lang="en-US" sz="22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Helping others to benefit from your activities, good practices and results achieved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550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Ensure maximum benefit by multiplying the effects of EU funding!</a:t>
            </a:r>
            <a:endParaRPr b="0" lang="en-US" sz="22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Creating awareness of project activities and results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550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The activities and results of your project matter!</a:t>
            </a:r>
            <a:endParaRPr b="0" lang="en-US" sz="22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Technical rules for Information &amp; Publicity (1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2707920"/>
            <a:ext cx="403884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16e"/>
                </a:solidFill>
                <a:latin typeface="Arial"/>
              </a:rPr>
              <a:t>REQUIREMENTS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00316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16e"/>
                </a:solidFill>
                <a:latin typeface="Arial"/>
              </a:rPr>
              <a:t>EU flag emblem including reference to EU and Fund </a:t>
            </a:r>
            <a:endParaRPr b="1" lang="en-US" sz="1800" spc="-1" strike="noStrike">
              <a:solidFill>
                <a:srgbClr val="00316e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16e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16e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16e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16e"/>
                </a:solidFill>
                <a:latin typeface="Arial"/>
              </a:rPr>
              <a:t>2. INTERREG IVC logo with slogan</a:t>
            </a:r>
            <a:endParaRPr b="1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0" y="3212640"/>
            <a:ext cx="4038480" cy="39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16e"/>
                </a:solidFill>
                <a:latin typeface="Arial"/>
                <a:ea typeface="SimSun"/>
              </a:rPr>
              <a:t>	</a:t>
            </a:r>
            <a:r>
              <a:rPr b="1" lang="fr-FR" sz="1800" spc="-1" strike="noStrike">
                <a:solidFill>
                  <a:srgbClr val="00316e"/>
                </a:solidFill>
                <a:latin typeface="Arial"/>
                <a:ea typeface="SimSun"/>
              </a:rPr>
              <a:t>               </a:t>
            </a:r>
            <a:endParaRPr b="1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611280" y="1413000"/>
            <a:ext cx="806436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60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PUBLICATIONS – </a:t>
            </a:r>
            <a:r>
              <a:rPr b="1" lang="fr-FR" sz="2400" spc="-1" strike="noStrike">
                <a:solidFill>
                  <a:srgbClr val="00316e"/>
                </a:solidFill>
                <a:latin typeface="Arial"/>
              </a:rPr>
              <a:t>logos on front page !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16e"/>
                </a:solidFill>
                <a:latin typeface="Arial"/>
              </a:rPr>
              <a:t>e.g. Brochures, leaflets, press releases, best practice guides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115" name="Picture 15" descr="INTERREG_IVC_LOGO_slogan"/>
          <p:cNvPicPr/>
          <p:nvPr/>
        </p:nvPicPr>
        <p:blipFill>
          <a:blip r:embed="rId2"/>
          <a:stretch/>
        </p:blipFill>
        <p:spPr>
          <a:xfrm>
            <a:off x="4786200" y="4421160"/>
            <a:ext cx="3457800" cy="1279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EU_fund_flag_long.jpg"/>
          <p:cNvPicPr/>
          <p:nvPr/>
        </p:nvPicPr>
        <p:blipFill>
          <a:blip r:embed="rId3"/>
          <a:stretch/>
        </p:blipFill>
        <p:spPr>
          <a:xfrm>
            <a:off x="4929120" y="3355920"/>
            <a:ext cx="3456000" cy="7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Technical rules for Information &amp; Publicity (2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4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WEBSITES, ELECTRONIC INFORMATION, AUDIO-VISUAL MATERIAL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16e"/>
                </a:solidFill>
                <a:latin typeface="Arial"/>
              </a:rPr>
              <a:t>REQUIREMENTS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31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EU and INTERREG IVC logo plus slogans, as for publications</a:t>
            </a:r>
            <a:endParaRPr b="1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31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Hyperlink to INTERREG IVC and DG REGIO websites (make logos clickable!)</a:t>
            </a:r>
            <a:endParaRPr b="1" lang="en-US" sz="18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Technical rules for Information &amp; Publicity (3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35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16e"/>
                </a:solidFill>
                <a:latin typeface="Arial"/>
              </a:rPr>
              <a:t>CONFERENCES, EVENTS, EXHIBITIONS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16e"/>
                </a:solidFill>
                <a:latin typeface="Arial"/>
              </a:rPr>
              <a:t>REQUIREMENTS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31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EU flag displayed in meeting rooms, at conferences etc</a:t>
            </a:r>
            <a:endParaRPr b="1" lang="en-US" sz="22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31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EU and INTERREG IVC logo (both with text) on all supports and documents (on front page)</a:t>
            </a:r>
            <a:endParaRPr b="1" lang="en-US" sz="2200" spc="-1" strike="noStrike">
              <a:solidFill>
                <a:srgbClr val="00316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Too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16e"/>
                </a:solidFill>
                <a:latin typeface="Arial"/>
              </a:rPr>
              <a:t>EU logo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Download: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 u="sng">
                <a:solidFill>
                  <a:srgbClr val="00316e"/>
                </a:solidFill>
                <a:uFillTx/>
                <a:latin typeface="Arial"/>
                <a:hlinkClick r:id="rId3"/>
              </a:rPr>
              <a:t>http://europa.eu/abc/symbols/emblem/download_en.htm</a:t>
            </a:r>
            <a:endParaRPr b="0" i="1" lang="en-US" sz="20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Graphical elements (colour, size, layout etc)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316e"/>
                </a:solidFill>
                <a:latin typeface="Arial"/>
              </a:rPr>
              <a:t>http://europa.eu/abc/symbols/emblem/graphics1_en.htm </a:t>
            </a:r>
            <a:endParaRPr b="0" i="1" lang="en-US" sz="20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16e"/>
                </a:solidFill>
                <a:latin typeface="Arial"/>
              </a:rPr>
              <a:t>INTERREG IVC logo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Download: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316e"/>
                </a:solidFill>
                <a:latin typeface="Arial"/>
              </a:rPr>
              <a:t>http://interreg4c.net/programme.html Click on ‘Programme Logos’</a:t>
            </a:r>
            <a:endParaRPr b="0" i="1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43080" indent="0" algn="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Information &amp; Publicity requirem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49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16e"/>
                </a:solidFill>
                <a:latin typeface="Arial"/>
              </a:rPr>
              <a:t>JTS Communication Suppor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INTERREG IVC Communication Officer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16e"/>
                </a:solidFill>
                <a:latin typeface="Arial"/>
              </a:rPr>
              <a:t>Nuala Morgan – nuala.morgan@interreg4c.eu</a:t>
            </a:r>
            <a:br>
              <a:rPr sz="1800"/>
            </a:br>
            <a:r>
              <a:rPr b="0" lang="fr-FR" sz="1800" spc="-1" strike="noStrike">
                <a:solidFill>
                  <a:srgbClr val="00316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Information Points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16e"/>
                </a:solidFill>
                <a:latin typeface="Arial"/>
              </a:rPr>
              <a:t>IP-North@interreg4c.eu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16e"/>
                </a:solidFill>
                <a:latin typeface="Arial"/>
              </a:rPr>
              <a:t>IP-East@interreg4c.eu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16e"/>
                </a:solidFill>
                <a:latin typeface="Arial"/>
              </a:rPr>
              <a:t>IP-South@interreg4c.eu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16e"/>
                </a:solidFill>
                <a:latin typeface="Arial"/>
              </a:rPr>
              <a:t>IP-West@interreg4c.eu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316e"/>
                </a:solidFill>
                <a:latin typeface="Arial"/>
              </a:rPr>
              <a:t>Don’t hesitate to contact us!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8T11:42:20Z</dcterms:created>
  <dc:creator>SAUVAGE Christophe</dc:creator>
  <dc:description/>
  <dc:language>en-US</dc:language>
  <cp:lastModifiedBy>Petra</cp:lastModifiedBy>
  <cp:lastPrinted>2007-09-10T14:07:15Z</cp:lastPrinted>
  <dcterms:modified xsi:type="dcterms:W3CDTF">2009-06-09T12:11:07Z</dcterms:modified>
  <cp:revision>1231</cp:revision>
  <dc:subject/>
  <dc:title>PowerPoint Presentation INTERREG IVC</dc:title>
</cp:coreProperties>
</file>