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8861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774600" y="9427680"/>
            <a:ext cx="28861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F2E74C-B0DB-413A-8919-790CF5D00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2B090D-2A54-4023-9D39-0DA65400159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A8AE509-0FB2-4610-A11B-504FFD455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F93FFA9-DEFA-450A-809F-520880EB0174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93C6D75-C6E0-4BBE-9038-131EFFC2FA16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BFA104-9B69-4B81-B9CF-92BF10DDDBC4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880D4A9-902D-475B-ADD2-602A81C3321A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84D6B7D-B983-49CB-BDE3-4789FE777E4E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D481B98-B45E-41DA-BC56-4C44916D65A1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5FCBE4A-7BE0-4A84-A604-74E11DCC0C7B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4A0DE7E-264F-403E-B5FB-6F47FCB20596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3F3B05-C50B-4184-AA34-2A1F56C2416C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8ED1FAF-CAC5-4A30-811B-E26775520161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B57D350-70F3-4810-A543-1A3F91A59954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F35FCC7-EEDE-4B20-9801-C02DF1748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DF7F0B-975C-4233-B944-22F0C4ABC5C8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0295BE-2008-4192-AF07-F83C4A442D91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FD5993-A998-41AF-809D-12CE7B1DB551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65280" y="4716000"/>
            <a:ext cx="5332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046436-2095-4A53-BEC3-253DA43CB68E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2A677F4-2C83-465C-BC76-47573BC21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A6956A-6BE0-48B4-94E5-A84A14EEBA93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14AAD5-B2F8-4044-89ED-BA21A72810A1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02536C-AAD1-4325-9CD8-57183938112D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4AD54A-FF0D-4E66-A93A-85747726AA3C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699936E-962C-4219-B817-1A73B0E2565C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244CF0-BDD0-415F-9C8B-050DF9F60F9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51040" y="74628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29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7CCEDF7-EF53-4442-ADCE-3188A82F79D2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5280" y="4714560"/>
            <a:ext cx="5332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3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7E13-AE75-4AC2-AA09-1AC552A4B859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Brussels, 11 June 2009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7" name="Picture 28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244000" y="6237360"/>
            <a:ext cx="5824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47" name="Picture 18" descr="DD80:Users:csauvage:Documents: OPERA MEUS:DOSSIERS EN COURS:INTERREG IV C:EXE:PPT:medias:Flag_EU.png"/>
          <p:cNvPicPr/>
          <p:nvPr/>
        </p:nvPicPr>
        <p:blipFill>
          <a:blip r:embed="rId4"/>
          <a:stretch/>
        </p:blipFill>
        <p:spPr>
          <a:xfrm>
            <a:off x="8305920" y="1384200"/>
            <a:ext cx="582480" cy="38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4" descr="DD80:Users:csauvage:Documents: OPERA MEUS:DOSSIERS EN COURS:INTERREG IV C:EXE:PPT:medias:INTERREG_IVC_LOGO.png"/>
          <p:cNvPicPr/>
          <p:nvPr/>
        </p:nvPicPr>
        <p:blipFill>
          <a:blip r:embed="rId5"/>
          <a:stretch/>
        </p:blipFill>
        <p:spPr>
          <a:xfrm>
            <a:off x="457200" y="533520"/>
            <a:ext cx="4648320" cy="1620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714760"/>
            <a:ext cx="8964720" cy="3341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INTERREG IVC Finance Seminar 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00316e"/>
                </a:solidFill>
                <a:latin typeface="Arial"/>
              </a:rPr>
              <a:t>General presentation of the Programme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Michel LAMBLIN | Programme Director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Brussels,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 11 &amp; 12 June 2009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643040" y="2921040"/>
            <a:ext cx="64292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6e"/>
                </a:solidFill>
                <a:latin typeface="Arial"/>
                <a:ea typeface="Arial"/>
              </a:rPr>
              <a:t>Projects related characteristics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- activiti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900000" y="90792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Arial"/>
                <a:ea typeface="Arial"/>
              </a:rPr>
              <a:t>Programme’s rationale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85880" y="2500200"/>
            <a:ext cx="763272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INTERREG IVC = ‘capitalisation’ programme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Interregional cooperation ≠ cross-border cooperation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Interregional cooperation ≠ transnational cooperation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357120" y="4429080"/>
            <a:ext cx="8497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Capitalisation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process of optimising the results achieved in a specific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domain of regional policy. Capitalisation activities consist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of the collection, analysis, validation, dissemination and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transfer of good practices in a certain policy area. 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179280" y="1714680"/>
            <a:ext cx="896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Strategic </a:t>
            </a:r>
            <a:r>
              <a:rPr b="0" lang="en-GB" sz="22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objective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of the programme: improvement of regional policie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826920" y="98100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Arial"/>
                <a:ea typeface="Arial"/>
              </a:rPr>
              <a:t>Programme’s rationale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11280" y="4508640"/>
            <a:ext cx="777708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16e"/>
              </a:buClr>
              <a:buFont typeface="Wingdings 3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INTERREG IVC ≠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‘implementation / investment’ program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Wingdings 3"/>
                <a:ea typeface="Wingdings 3"/>
              </a:rPr>
              <a:t>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INTERREG IVC ≠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‘research &amp; development’ program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971640" y="1916280"/>
            <a:ext cx="702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Key elements of interregional cooperation: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900000" y="263700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Link to regional / local policies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Exchange of experiences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Identification and/or transfer of good practice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6572160" y="2857680"/>
            <a:ext cx="144720" cy="579240"/>
          </a:xfrm>
          <a:custGeom>
            <a:avLst/>
            <a:gdLst>
              <a:gd name="textAreaLeft" fmla="*/ 0 w 144720"/>
              <a:gd name="textAreaRight" fmla="*/ 52200 w 144720"/>
              <a:gd name="textAreaTop" fmla="*/ 29880 h 579240"/>
              <a:gd name="textAreaBottom" fmla="*/ 549360 h 57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88"/>
                  <a:pt x="10800" y="3575"/>
                </a:cubicBezTo>
                <a:lnTo>
                  <a:pt x="10800" y="7225"/>
                </a:lnTo>
                <a:cubicBezTo>
                  <a:pt x="10800" y="9013"/>
                  <a:pt x="16200" y="10800"/>
                  <a:pt x="21600" y="10800"/>
                </a:cubicBezTo>
                <a:cubicBezTo>
                  <a:pt x="16200" y="10800"/>
                  <a:pt x="10800" y="12588"/>
                  <a:pt x="10800" y="14375"/>
                </a:cubicBezTo>
                <a:lnTo>
                  <a:pt x="10800" y="18025"/>
                </a:lnTo>
                <a:cubicBezTo>
                  <a:pt x="10800" y="1981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929280" y="321480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Capitalis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826920" y="98100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Arial"/>
                <a:ea typeface="Arial"/>
              </a:rPr>
              <a:t>Programme’s rationale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00040" y="2500200"/>
            <a:ext cx="820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3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Local &amp; regional authoritie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= ‘natural’ target group of IVC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Other bodies may be involved only if their link with regional and local policies is clearly demonstrated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3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Exchange of experience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= core activities of all IVC project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Pilot actions / experimentations possible but only under very strict condition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57160" y="1857240"/>
            <a:ext cx="70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Key elements derives from this programme’s rationale</a:t>
            </a:r>
            <a:r>
              <a:rPr b="0" lang="en-GB" sz="22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539640" y="1773360"/>
            <a:ext cx="8207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3853"/>
                </a:solidFill>
                <a:latin typeface="Arial"/>
              </a:rPr>
              <a:t>Regional Initiative Project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998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853"/>
                </a:solidFill>
                <a:latin typeface="Arial"/>
              </a:rPr>
              <a:t>Exchange of experience dedicated to the identification, analysis, dissemination and possible transfer of good practic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998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853"/>
                </a:solidFill>
                <a:latin typeface="Arial"/>
              </a:rPr>
              <a:t>Intensity of cooperation (from light networking to mini-programmes)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ct val="120000"/>
              </a:lnSpc>
              <a:spcBef>
                <a:spcPts val="249"/>
              </a:spcBef>
              <a:buClr>
                <a:srgbClr val="0a50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3853"/>
                </a:solidFill>
                <a:latin typeface="Arial"/>
              </a:rPr>
              <a:t>Capitalisation Projects, including Fast Track Project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998"/>
              </a:lnSpc>
              <a:spcBef>
                <a:spcPts val="1012"/>
              </a:spcBef>
              <a:spcAft>
                <a:spcPts val="451"/>
              </a:spcAft>
              <a:buClr>
                <a:srgbClr val="ffcc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853"/>
                </a:solidFill>
                <a:latin typeface="Arial"/>
              </a:rPr>
              <a:t>Exchange of experience dedicated to the transfer of good practices already identified into SF mainstream programm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998"/>
              </a:lnSpc>
              <a:spcBef>
                <a:spcPts val="1012"/>
              </a:spcBef>
              <a:spcAft>
                <a:spcPts val="451"/>
              </a:spcAft>
              <a:buClr>
                <a:srgbClr val="ffcc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853"/>
                </a:solidFill>
                <a:latin typeface="Arial"/>
              </a:rPr>
              <a:t>Final outcome: Action Plan for each participating region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998"/>
              </a:lnSpc>
              <a:spcBef>
                <a:spcPts val="1012"/>
              </a:spcBef>
              <a:spcAft>
                <a:spcPts val="451"/>
              </a:spcAft>
              <a:buClr>
                <a:srgbClr val="ffcc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853"/>
                </a:solidFill>
                <a:latin typeface="Arial"/>
              </a:rPr>
              <a:t>Fast Track projects: Capitalisation Projects benefiting from specific European Commission assistance and expertise in order to contribute to the “Regions for Economic Change” Initiative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95280" y="907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s of Intervention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971640" y="765000"/>
            <a:ext cx="756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1 ‘Regional Initiative Projects’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Definition &amp; Main Characteristic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65120" y="1989000"/>
            <a:ext cx="867888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Classic’ type of interregional cooperation projects: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Cooperation projects between partners on a shared regional policy issue within the programme’s thematic prioriti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Intensity of cooperation from networking activities to intensive joint development (e.g. mini-programme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Regardless of the intensity, one core requirement for all:  specific focus on the </a:t>
            </a: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interregional exchange of experience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at policy level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8576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826920" y="69228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1 ‘Regional Initiative Projects’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Recommendations’ overview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7120" y="2071800"/>
          <a:ext cx="8501040" cy="4108320"/>
        </p:xfrm>
        <a:graphic>
          <a:graphicData uri="http://schemas.openxmlformats.org/drawingml/2006/table">
            <a:tbl>
              <a:tblPr/>
              <a:tblGrid>
                <a:gridCol w="1656000"/>
                <a:gridCol w="6845040"/>
              </a:tblGrid>
              <a:tr h="183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Size of the partnership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00316e"/>
                        </a:buClr>
                        <a:buSzPct val="80000"/>
                        <a:buFont typeface="Arial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Recommended number of partners depends on the level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 of intensity of cooperation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e.g. basic level: max of 20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         medium level: max of 15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00316e"/>
                        </a:buClr>
                        <a:buSzPct val="80000"/>
                        <a:buFont typeface="Arial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ini-programmes: must not exceed 8 partners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36 months (up to 48 months for mini programme)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156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in ERDF:  EUR 500,000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ax ERDF: EUR 5 million (only in </a:t>
                      </a:r>
                      <a:r>
                        <a:rPr b="0" lang="en-GB" sz="2000" spc="-1" strike="noStrike" u="sng">
                          <a:solidFill>
                            <a:srgbClr val="00316e"/>
                          </a:solidFill>
                          <a:uFillTx/>
                          <a:latin typeface="Arial"/>
                          <a:ea typeface="Arial"/>
                        </a:rPr>
                        <a:t>exceptional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case)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Expected average ERDF budget of IVC projects: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between EUR 1 and 2 million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826920" y="90792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2 ‘Capitalisation Projects’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Definition &amp; Main Characteristic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95280" y="2060640"/>
            <a:ext cx="874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Rationale: to ensure that good practices are not ‘lost’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95280" y="2781360"/>
            <a:ext cx="8748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Cooperation project dedicated to the transfer of good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  practices into  EU Structural Funds mainstream programme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  of the participating region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(i.e. Convergence, Competitiveness &amp;</a:t>
            </a:r>
            <a:br>
              <a:rPr sz="1800"/>
            </a:br>
            <a:r>
              <a:rPr b="0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    European Territorial Cooperation)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95280" y="4724280"/>
            <a:ext cx="835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Two prerequisites for applying to Capitalisation Projec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900000" y="5229360"/>
            <a:ext cx="777744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16e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xistence of good practices ready to be transferred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Involvement of the relevant Managing Authoriti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826920" y="90792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2 ‘Capitalisation Projects’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Overview of Recommendation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00040" y="2428920"/>
          <a:ext cx="8352000" cy="3076560"/>
        </p:xfrm>
        <a:graphic>
          <a:graphicData uri="http://schemas.openxmlformats.org/drawingml/2006/table">
            <a:tbl>
              <a:tblPr/>
              <a:tblGrid>
                <a:gridCol w="1984320"/>
                <a:gridCol w="6367680"/>
              </a:tblGrid>
              <a:tr h="13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Size of the partnership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in n° of countries represented:    </a:t>
                      </a: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ax n° of countries represented:  </a:t>
                      </a: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Duration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24 months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Budget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in ERDF:  EUR 300,000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ax ERDF: EUR 3 million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826920" y="90792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Project activities: general requirement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11280" y="1484280"/>
            <a:ext cx="828180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Proposed activities have to respect 3 fundamental conditions: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Relevance to the programme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Activities have to be clearly in line with the overall objective of the programme (i.e. contribute to the improvement of policies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Interregionality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Activities should be interregional. Example for pilot experimentation: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- transfer from one region to another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- pilot experimentation benefiting all the partners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Additionality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Activities would not be supported without the INTERREG support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68360" y="1270080"/>
            <a:ext cx="7488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31800" indent="-457200">
              <a:lnSpc>
                <a:spcPct val="100000"/>
              </a:lnSpc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INTERREG IVC main features: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SzPct val="14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programme characteristics and structure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SzPct val="14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project related characteristics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- activiti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- finances </a:t>
            </a:r>
            <a:br>
              <a:rPr sz="2400"/>
            </a:b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631800" indent="-457200">
              <a:lnSpc>
                <a:spcPct val="100000"/>
              </a:lnSpc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the challenges &amp; the importance of the Finance, Control and Audit community to take up these challenges</a:t>
            </a:r>
            <a:br>
              <a:rPr sz="2400"/>
            </a:b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631800" indent="-4572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6318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8" descr="DD80:Users:csauvage:Documents: OPERA MEUS:DOSSIERS EN COURS:INTERREG IV C:EXE:PPT:medias:Flag_EU.png"/>
          <p:cNvPicPr/>
          <p:nvPr/>
        </p:nvPicPr>
        <p:blipFill>
          <a:blip r:embed="rId1"/>
          <a:stretch/>
        </p:blipFill>
        <p:spPr>
          <a:xfrm>
            <a:off x="8321760" y="6265800"/>
            <a:ext cx="714240" cy="476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4360" y="1125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Arial"/>
              </a:rPr>
              <a:t>Good example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714240" y="2357280"/>
            <a:ext cx="785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A group of </a:t>
            </a: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local authorities exchanging experiences on strategies/policies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dedicated to the use of public transport (in order to save energy and reduce pollution by reducing the number of cars in the traffic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Study trips, seminars, workshop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olicy recommendation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8" descr="DD80:Users:csauvage:Documents: OPERA MEUS:DOSSIERS EN COURS:INTERREG IV C:EXE:PPT:medias:Flag_EU.png"/>
          <p:cNvPicPr/>
          <p:nvPr/>
        </p:nvPicPr>
        <p:blipFill>
          <a:blip r:embed="rId1"/>
          <a:stretch/>
        </p:blipFill>
        <p:spPr>
          <a:xfrm>
            <a:off x="8321760" y="6265800"/>
            <a:ext cx="714240" cy="476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14240" y="1143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Arial"/>
              </a:rPr>
              <a:t>Bad example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85840" y="2428920"/>
            <a:ext cx="85723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ublic transport companies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oposing </a:t>
            </a: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local actions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/awareness campaigns to promote the use of public transport.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Mainly local activiti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Lack of interregionality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Lack of exchange of experience at policy level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785960" y="2778120"/>
            <a:ext cx="614376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6e"/>
                </a:solidFill>
                <a:latin typeface="Arial"/>
                <a:ea typeface="Arial"/>
              </a:rPr>
              <a:t>Projects related characteristics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- financ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557360"/>
          <a:ext cx="8209080" cy="4522680"/>
        </p:xfrm>
        <a:graphic>
          <a:graphicData uri="http://schemas.openxmlformats.org/drawingml/2006/table">
            <a:tbl>
              <a:tblPr/>
              <a:tblGrid>
                <a:gridCol w="2359080"/>
                <a:gridCol w="58500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2553"/>
                          </a:solidFill>
                          <a:latin typeface="Arial"/>
                        </a:rPr>
                        <a:t>75% ERDF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1368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2553"/>
                          </a:solidFill>
                          <a:latin typeface="Arial"/>
                        </a:rPr>
                        <a:t>Austria, Belgium, Denmark, Finland, France, Germany, Ireland, Italy, Luxembourg, Netherlands, Spain, Sweden, UK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1368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2553"/>
                          </a:solidFill>
                          <a:latin typeface="Arial"/>
                        </a:rPr>
                        <a:t>85% ERDF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2553"/>
                          </a:solidFill>
                          <a:latin typeface="Arial"/>
                        </a:rPr>
                        <a:t>Bulgaria, Czech Republic, Cyprus, Estonia, Greece, Hungary, Lithuania, Latvia, Malta, Poland, Portugal, Romania, Slovakia, Slovenia 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2553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1368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2553"/>
                          </a:solidFill>
                          <a:latin typeface="Arial"/>
                        </a:rPr>
                        <a:t>Norway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13680">
                      <a:solidFill>
                        <a:srgbClr val="0031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16"/>
          <p:cNvSpPr/>
          <p:nvPr/>
        </p:nvSpPr>
        <p:spPr>
          <a:xfrm>
            <a:off x="539640" y="83664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Co-financing rate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10920" y="1484280"/>
            <a:ext cx="8142120" cy="48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92000" indent="-339480">
              <a:lnSpc>
                <a:spcPct val="120000"/>
              </a:lnSpc>
              <a:spcBef>
                <a:spcPts val="1199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Public bodie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92000" indent="-339480">
              <a:lnSpc>
                <a:spcPct val="120000"/>
              </a:lnSpc>
              <a:spcBef>
                <a:spcPts val="1199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Bodies governed by public law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207080" indent="-301680">
              <a:lnSpc>
                <a:spcPct val="100000"/>
              </a:lnSpc>
              <a:spcBef>
                <a:spcPts val="499"/>
              </a:spcBef>
              <a:buClr>
                <a:srgbClr val="00316e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no industrial or commercial character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07080" indent="-301680">
              <a:lnSpc>
                <a:spcPct val="100000"/>
              </a:lnSpc>
              <a:spcBef>
                <a:spcPts val="499"/>
              </a:spcBef>
              <a:buClr>
                <a:srgbClr val="00316e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legal personality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07080" indent="-301680">
              <a:lnSpc>
                <a:spcPct val="100000"/>
              </a:lnSpc>
              <a:spcBef>
                <a:spcPts val="499"/>
              </a:spcBef>
              <a:buClr>
                <a:srgbClr val="00316e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- the most part financed by the State, regional or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07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local authorities or other bodies governed by public      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07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law or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07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- management supervision of these bodies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07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or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07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- administrative, managerial or supervisory board        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07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more than half of whose members are appointed by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207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these bodi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39640" y="90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Who is eligible?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6"/>
          <p:cNvSpPr/>
          <p:nvPr/>
        </p:nvSpPr>
        <p:spPr>
          <a:xfrm>
            <a:off x="539640" y="90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Eligible cost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1700280"/>
            <a:ext cx="889308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2553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Staff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2553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Administration</a:t>
            </a: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2553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Travel &amp; accommodation</a:t>
            </a: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2553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1199"/>
              </a:spcBef>
              <a:buClr>
                <a:srgbClr val="002553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External expertise &amp; servic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002553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1199"/>
              </a:spcBef>
              <a:buClr>
                <a:srgbClr val="002553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Sub-projects</a:t>
            </a: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2553"/>
                </a:solidFill>
                <a:latin typeface="Arial"/>
              </a:rPr>
              <a:t>(for mini-programmes on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755640" y="1125360"/>
            <a:ext cx="7561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</a:rPr>
              <a:t>Application Process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500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316e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Call January 2008, 2</a:t>
            </a:r>
            <a:r>
              <a:rPr b="0" lang="en-GB" sz="2400" spc="-1" strike="noStrike" baseline="30000">
                <a:solidFill>
                  <a:srgbClr val="00316e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Call January 2009, 3</a:t>
            </a:r>
            <a:r>
              <a:rPr b="0" lang="en-GB" sz="2400" spc="-1" strike="noStrike" baseline="30000">
                <a:solidFill>
                  <a:srgbClr val="00316e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Call December 2009 (CAPs only),...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500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Eligibility check by the J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500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Quality assessment by JTS (assisted by the IPs and  external experts for the thematic relevance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500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Decision by MC based on recommendation by J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446040">
              <a:lnSpc>
                <a:spcPct val="120000"/>
              </a:lnSpc>
              <a:spcBef>
                <a:spcPts val="1250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pproval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46040">
              <a:lnSpc>
                <a:spcPct val="120000"/>
              </a:lnSpc>
              <a:spcBef>
                <a:spcPts val="1250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pproval under condition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46040">
              <a:lnSpc>
                <a:spcPct val="120000"/>
              </a:lnSpc>
              <a:spcBef>
                <a:spcPts val="1250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rejec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460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574560" y="785880"/>
            <a:ext cx="8569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0c200"/>
                </a:solidFill>
                <a:latin typeface="Arial"/>
              </a:rPr>
              <a:t>Application Process (1</a:t>
            </a:r>
            <a:r>
              <a:rPr b="1" lang="en-GB" sz="2000" spc="-1" strike="noStrike" baseline="30000">
                <a:solidFill>
                  <a:srgbClr val="f0c200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f0c200"/>
                </a:solidFill>
                <a:latin typeface="Arial"/>
              </a:rPr>
              <a:t> call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Submission date of applications: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15 January 2008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Number of applications received: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492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non-eligible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94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eligible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398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Decision by MC : - for capitalisation projects (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6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/12)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April 2008</a:t>
            </a:r>
            <a:br>
              <a:rPr sz="1600"/>
            </a:b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                           - for regional initiative projects (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35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/386)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September 2008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1</a:t>
            </a:r>
            <a:r>
              <a:rPr b="0" lang="en-GB" sz="1600" spc="-1" strike="noStrike" baseline="30000">
                <a:solidFill>
                  <a:srgbClr val="00316e"/>
                </a:solidFill>
                <a:latin typeface="Arial"/>
              </a:rPr>
              <a:t>st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progress report expected by: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April 2009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0c200"/>
                </a:solidFill>
                <a:latin typeface="Arial"/>
              </a:rPr>
              <a:t>Application Process (2</a:t>
            </a:r>
            <a:r>
              <a:rPr b="1" lang="en-GB" sz="2000" spc="-1" strike="noStrike" baseline="30000">
                <a:solidFill>
                  <a:srgbClr val="f0c200"/>
                </a:solidFill>
                <a:latin typeface="Arial"/>
              </a:rPr>
              <a:t>nd</a:t>
            </a:r>
            <a:r>
              <a:rPr b="1" lang="en-GB" sz="2000" spc="-1" strike="noStrike">
                <a:solidFill>
                  <a:srgbClr val="f0c200"/>
                </a:solidFill>
                <a:latin typeface="Arial"/>
              </a:rPr>
              <a:t> call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Submission date of applications: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30 January 2009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Number of applications received: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481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non-eligible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eligible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389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Decision by MC  for all projects (389)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November 2009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749"/>
              </a:spcBef>
              <a:buClr>
                <a:srgbClr val="f0c200"/>
              </a:buClr>
              <a:buFont typeface="Wingdings" charset="2"/>
              <a:buChar char=""/>
              <a:tabLst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99680" y="1285560"/>
            <a:ext cx="835812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  <a:p>
            <a:pPr lvl="1" marL="838080" indent="-380880">
              <a:lnSpc>
                <a:spcPct val="140000"/>
              </a:lnSpc>
              <a:spcBef>
                <a:spcPts val="700"/>
              </a:spcBef>
              <a:spcAft>
                <a:spcPts val="700"/>
              </a:spcAft>
              <a:buClr>
                <a:srgbClr val="00316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the challenges &amp; the importance of the Finance, Control and Audit community to take up these challenges </a:t>
            </a: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(incl lessons learnt from INTERREG IIIC &amp;)</a:t>
            </a: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lvl="1" marL="838080" indent="0">
              <a:lnSpc>
                <a:spcPct val="14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challenges for INTERREG IVC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6143760" y="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r>
              <a:rPr b="1" lang="en-GB" sz="2400" spc="-1" strike="noStrike">
                <a:solidFill>
                  <a:srgbClr val="00316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539640" y="836640"/>
            <a:ext cx="8207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ts val="2798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0c200"/>
                </a:solidFill>
                <a:latin typeface="Arial"/>
              </a:rPr>
              <a:t>Challenges for sound financial management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2798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high number of partners from many different M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2798"/>
              </a:lnSpc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2798"/>
              </a:lnSpc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general complexity of interregional projects (differences in languages, administrative procedures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2798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2798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lack of experience of some partners with the management of ERDF-fund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2798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2798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rules can differ from one funding programme to another or can be interpreted differently and thus lead to confusion and mistakes.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2798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2798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461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500120" y="31100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  <a:ea typeface="Arial"/>
              </a:rPr>
              <a:t>Programme characteristics and structure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539640" y="2062080"/>
            <a:ext cx="82076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ts val="1899"/>
              </a:lnSpc>
              <a:spcBef>
                <a:spcPts val="1650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1899"/>
              </a:lnSpc>
              <a:spcBef>
                <a:spcPts val="1650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Quality checks of operations: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by CA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by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MA/JT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by M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Audits: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EC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Court of Auditor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Group of Auditor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899"/>
              </a:lnSpc>
              <a:spcBef>
                <a:spcPts val="8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077840" indent="-365040">
              <a:lnSpc>
                <a:spcPts val="1899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ts val="1899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95280" y="912960"/>
            <a:ext cx="80643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Quality Assurance Measures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For Sound Financial Managemen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461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1500120"/>
            <a:ext cx="9144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Programme guidance for projects: the Programme manual, incl.: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2" marL="1436760" indent="-187560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control guidelines (with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standardised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control confirmation, control report incl. checklist to be used on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all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levels)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2" marL="1436760" indent="-187560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guidance notes on specific issue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Programme specific trainings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527120" indent="-365040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for LP’s, their finance managers + controllers by JT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1" marL="1527120" indent="-365040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for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partner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by MS (with potential JTS’ involvement) 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Your Finance + Your Project Officer in the JTS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INTERREG IVC website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28760" y="571680"/>
            <a:ext cx="80643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Quality Assurance Measures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For Sound Financial Managemen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461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57040" y="-1080"/>
            <a:ext cx="7086600" cy="45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547640" y="2057400"/>
            <a:ext cx="62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Thank you for your attention!</a:t>
            </a:r>
            <a:endParaRPr b="0" lang="en-US" sz="3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995480" y="386064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316e"/>
                </a:solidFill>
                <a:latin typeface="Arial"/>
                <a:ea typeface="Arial"/>
              </a:rPr>
              <a:t>www.interreg4c.eu</a:t>
            </a:r>
            <a:endParaRPr b="0" lang="en-US" sz="3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357200"/>
            <a:ext cx="36432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 Programme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for 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27 EU-Member State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+ Norway &amp; Switzerland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ts val="25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 Managing Authority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(Région Nord - Pas de Calais), </a:t>
            </a:r>
            <a:br>
              <a:rPr sz="2000"/>
            </a:b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 Certifying Authority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(CDC),</a:t>
            </a:r>
            <a:br>
              <a:rPr sz="2000"/>
            </a:b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 Audit Authority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(CICC-FS),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ts val="2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 Secretariat: JTS in Lille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and 4 Information Points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in Rostock, Katowice, Valencia and Lill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57120" y="92880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0c200"/>
                </a:solidFill>
                <a:latin typeface="Arial"/>
              </a:rPr>
              <a:t>INTERREG IVC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9" descr=""/>
          <p:cNvPicPr/>
          <p:nvPr/>
        </p:nvPicPr>
        <p:blipFill>
          <a:blip r:embed="rId1"/>
          <a:stretch/>
        </p:blipFill>
        <p:spPr>
          <a:xfrm>
            <a:off x="3710160" y="944640"/>
            <a:ext cx="53989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857160" y="8571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Overall objective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28760" y="1643040"/>
            <a:ext cx="871524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lnSpc>
                <a:spcPct val="10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Improve the effectiveness of regional development policies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Contribute to economic modernisation and increased competitiveness of Europe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by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 algn="ctr">
              <a:lnSpc>
                <a:spcPct val="100000"/>
              </a:lnSpc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nabling exchange of experiences and knowledge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Matching less experienced with more advanced region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nsuring transfer of identified good practice into mainstream programm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355680" indent="-35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84360" y="765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Programme Prioritie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42920" y="2276640"/>
            <a:ext cx="741672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ts val="1899"/>
              </a:lnSpc>
              <a:spcBef>
                <a:spcPts val="67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nnovation, Research &amp; Technology Development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363600" indent="-363600">
              <a:lnSpc>
                <a:spcPts val="1899"/>
              </a:lnSpc>
              <a:spcBef>
                <a:spcPts val="67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ntrepreneurship and SM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363600" indent="-363600">
              <a:lnSpc>
                <a:spcPts val="1899"/>
              </a:lnSpc>
              <a:spcBef>
                <a:spcPts val="67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nformation Society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363600" indent="-363600">
              <a:lnSpc>
                <a:spcPts val="1899"/>
              </a:lnSpc>
              <a:spcBef>
                <a:spcPts val="67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mployment, Human Resources and Education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24000" y="1413000"/>
            <a:ext cx="8820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Priority 1 (Lisbon strategy):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Innovation and Knowledge Economy (ERDF 177 M€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55640" y="3789360"/>
            <a:ext cx="74883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Priority 2 (Gothenburg strategy):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Environment and Risk Prevention (ERDF 125 M€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042920" y="4653000"/>
            <a:ext cx="741672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ts val="1899"/>
              </a:lnSpc>
              <a:spcBef>
                <a:spcPts val="67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Natural and Technological Risks (incl. Climate Change)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363600" indent="-363600">
              <a:lnSpc>
                <a:spcPts val="1899"/>
              </a:lnSpc>
              <a:spcBef>
                <a:spcPts val="67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Water Management &amp; Waste Prevention/Management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363600" indent="-363600">
              <a:lnSpc>
                <a:spcPts val="1899"/>
              </a:lnSpc>
              <a:spcBef>
                <a:spcPts val="67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Biodiversity and Preservation of Natural Heritage (incl. Air Quality)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363600" indent="-363600">
              <a:lnSpc>
                <a:spcPts val="1899"/>
              </a:lnSpc>
              <a:spcBef>
                <a:spcPts val="67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nergy and Sustainable Transport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marL="363600" indent="-363600">
              <a:lnSpc>
                <a:spcPts val="1899"/>
              </a:lnSpc>
              <a:spcBef>
                <a:spcPts val="67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Cultural Heritage and Landscape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10000" y="1467000"/>
            <a:ext cx="74242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fr-FR" sz="3200" spc="-1" strike="noStrike">
                <a:solidFill>
                  <a:srgbClr val="00316e"/>
                </a:solidFill>
                <a:latin typeface="Tahoma"/>
              </a:rPr>
              <a:t>INTERREG IVC            321 M€ ERDF   </a:t>
            </a:r>
            <a:endParaRPr b="0" lang="en-US" sz="3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16e"/>
                </a:solidFill>
                <a:latin typeface="Tahoma"/>
              </a:rPr>
              <a:t>_________________________    =    _____________</a:t>
            </a:r>
            <a:r>
              <a:rPr b="1" lang="fr-FR" sz="2000" spc="-1" strike="noStrike" u="sng">
                <a:solidFill>
                  <a:srgbClr val="00316e"/>
                </a:solidFill>
                <a:uFillTx/>
                <a:latin typeface="Tahoma"/>
              </a:rPr>
              <a:t>__    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16e"/>
                </a:solidFill>
                <a:latin typeface="Symbol"/>
                <a:ea typeface="Symbol"/>
              </a:rPr>
              <a:t></a:t>
            </a:r>
            <a:r>
              <a:rPr b="1" lang="fr-FR" sz="3200" spc="-1" strike="noStrike">
                <a:solidFill>
                  <a:srgbClr val="00316e"/>
                </a:solidFill>
                <a:latin typeface="Tahoma"/>
              </a:rPr>
              <a:t> </a:t>
            </a:r>
            <a:r>
              <a:rPr b="1" lang="fr-FR" sz="3200" spc="-1" strike="noStrike">
                <a:solidFill>
                  <a:srgbClr val="00316e"/>
                </a:solidFill>
                <a:latin typeface="Tahoma"/>
              </a:rPr>
              <a:t>Structural Funds        348 000 M€</a:t>
            </a:r>
            <a:endParaRPr b="0" lang="en-US" sz="3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564000" y="4365720"/>
            <a:ext cx="26636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16e"/>
                </a:solidFill>
                <a:latin typeface="Tahoma"/>
              </a:rPr>
              <a:t>=</a:t>
            </a:r>
            <a:r>
              <a:rPr b="1" lang="fr-FR" sz="6000" spc="-1" strike="noStrike">
                <a:solidFill>
                  <a:srgbClr val="00316e"/>
                </a:solidFill>
                <a:latin typeface="Tahoma"/>
              </a:rPr>
              <a:t> 1 </a:t>
            </a:r>
            <a:r>
              <a:rPr b="1" lang="fr-FR" sz="6000" spc="-1" strike="noStrike" baseline="20000">
                <a:solidFill>
                  <a:srgbClr val="00316e"/>
                </a:solidFill>
                <a:latin typeface="Tahoma"/>
              </a:rPr>
              <a:t>°</a:t>
            </a:r>
            <a:r>
              <a:rPr b="0" lang="fr-FR" sz="6000" spc="-1" strike="noStrike">
                <a:solidFill>
                  <a:srgbClr val="00316e"/>
                </a:solidFill>
                <a:latin typeface="Tahoma"/>
              </a:rPr>
              <a:t>/</a:t>
            </a:r>
            <a:r>
              <a:rPr b="1" lang="fr-FR" sz="6000" spc="-1" strike="noStrike" baseline="-25000">
                <a:solidFill>
                  <a:srgbClr val="00316e"/>
                </a:solidFill>
                <a:latin typeface="Tahoma"/>
              </a:rPr>
              <a:t>°°</a:t>
            </a:r>
            <a:endParaRPr b="0" lang="en-US" sz="6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181440" y="1557360"/>
            <a:ext cx="93250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16e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99"/>
              </a:spcBef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Funding for Operations (ERDF + NO):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EUR 304.7 million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219320" indent="-304920">
              <a:lnSpc>
                <a:spcPct val="120000"/>
              </a:lnSpc>
              <a:spcBef>
                <a:spcPts val="901"/>
              </a:spcBef>
              <a:buClr>
                <a:srgbClr val="00316e"/>
              </a:buClr>
              <a:buSzPct val="9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Priority 1: Innovation &amp; Knowledge Economy: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219320" indent="-304920">
              <a:lnSpc>
                <a:spcPct val="120000"/>
              </a:lnSpc>
              <a:spcBef>
                <a:spcPts val="901"/>
              </a:spcBef>
              <a:buClr>
                <a:srgbClr val="00316e"/>
              </a:buClr>
              <a:buSzPct val="9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Priority 2: Environment &amp; Risk Prevention: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99"/>
              </a:spcBef>
              <a:buClr>
                <a:srgbClr val="00316e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Technical Assistance (ERDF + NO + CH): EUR 19.8 million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219320" indent="-304920">
              <a:lnSpc>
                <a:spcPct val="120000"/>
              </a:lnSpc>
              <a:spcBef>
                <a:spcPts val="901"/>
              </a:spcBef>
              <a:buClr>
                <a:srgbClr val="00316e"/>
              </a:buClr>
              <a:buSzPct val="9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JTS (incl. IP Lille)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 EUR 17.3 million      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219320" indent="-304920">
              <a:lnSpc>
                <a:spcPct val="120000"/>
              </a:lnSpc>
              <a:spcBef>
                <a:spcPts val="901"/>
              </a:spcBef>
              <a:buClr>
                <a:srgbClr val="00316e"/>
              </a:buClr>
              <a:buSzPct val="9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nformation Points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 EUR 2.5 million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21932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Rostock, Katowice, Valencia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21932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2" marL="121932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lvl="1" marL="8002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907920"/>
            <a:ext cx="4665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Programme funding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14200" y="18241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INTERREG IIIC experience (264 projects – 2600 partners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142920" y="3143160"/>
            <a:ext cx="914400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INTERREG IVC forecast (appr. 220 projects. – 2200 partners)</a:t>
            </a:r>
            <a:r>
              <a:rPr b="0" lang="fr-FR" sz="2200" spc="-1" strike="noStrike" u="sng">
                <a:solidFill>
                  <a:srgbClr val="00316e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00316e"/>
                </a:solidFill>
                <a:uFillTx/>
                <a:latin typeface="Arial"/>
              </a:rPr>
              <a:t>After first call: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1100"/>
              </a:spcBef>
              <a:buClr>
                <a:srgbClr val="00316e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Total ERDF committed: 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EUR 71.4 million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1100"/>
              </a:spcBef>
              <a:buClr>
                <a:srgbClr val="00316e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00316e"/>
                </a:solidFill>
                <a:uFillTx/>
                <a:latin typeface="Arial"/>
              </a:rPr>
              <a:t>Average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 ERDF + Nor budget per project: 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EUR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 1.7 million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1001"/>
              </a:spcBef>
              <a:buClr>
                <a:srgbClr val="00316e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00316e"/>
                </a:solidFill>
                <a:uFillTx/>
                <a:latin typeface="Arial"/>
              </a:rPr>
              <a:t>Average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 ERDF + Nor budget per partner: 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EUR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316e"/>
                </a:solidFill>
                <a:latin typeface="Arial"/>
              </a:rPr>
              <a:t> 160,000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3" name="Rectangle 4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INTERREG IVC Main Featur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42:20Z</dcterms:created>
  <dc:creator>SAUVAGE Christophe</dc:creator>
  <dc:description/>
  <dc:language>en-US</dc:language>
  <cp:lastModifiedBy>Petra</cp:lastModifiedBy>
  <cp:lastPrinted>2007-09-10T14:07:15Z</cp:lastPrinted>
  <dcterms:modified xsi:type="dcterms:W3CDTF">2009-06-10T16:03:42Z</dcterms:modified>
  <cp:revision>1245</cp:revision>
  <dc:subject/>
  <dc:title>PowerPoint Presentation INTERREG IVC</dc:title>
</cp:coreProperties>
</file>