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48D2-4601-4AF8-8129-DA223507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1312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6941-B582-43FD-8A70-BF21973FF34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533520" y="65689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2993-77A4-4115-AC2B-63E04C48CCFD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7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19178"/>
                </a:solidFill>
                <a:latin typeface="Arial"/>
              </a:rPr>
              <a:t>Finance Seminar, 11./12. June 2009, Brussel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8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5"/>
          <p:cNvSpPr/>
          <p:nvPr/>
        </p:nvSpPr>
        <p:spPr>
          <a:xfrm>
            <a:off x="533520" y="65689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5DF-F617-4F96-A97B-2881B16AEE73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Finance Seminar, 11./12. June 2009, Brussel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53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54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reg4c.e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95280" y="3562200"/>
            <a:ext cx="6553080" cy="519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209680" y="2433600"/>
            <a:ext cx="6553440" cy="642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16e"/>
                </a:solidFill>
                <a:latin typeface="Arial"/>
              </a:rPr>
              <a:t>Finance Seminar</a:t>
            </a:r>
            <a:endParaRPr b="0" lang="en-US" sz="36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928880" y="4653000"/>
            <a:ext cx="6840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16e"/>
                </a:solidFill>
                <a:latin typeface="Arial"/>
              </a:rPr>
              <a:t>Martina Bacova, Finance Officer, JTS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95280" y="1213920"/>
            <a:ext cx="8461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What are Staff costs?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Personnel costs for the time that the partner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organisations’ staff spends on carrying out the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project activities (full-time or a certain percentage of  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total working time).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The persons whose staff costs are reported must be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directly employed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by the partner organisations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officially listed in the application form.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068120"/>
            <a:ext cx="7920000" cy="48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Staff costs </a:t>
            </a:r>
            <a:r>
              <a:rPr b="1" lang="en-GB" sz="2600" spc="-1" strike="noStrike">
                <a:solidFill>
                  <a:srgbClr val="00316e"/>
                </a:solidFill>
                <a:latin typeface="Arial"/>
                <a:ea typeface="Arial"/>
              </a:rPr>
              <a:t>≠ In kind contribution!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Staff costs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for personnel working in one of the partner institutions on the basis of an employment contract and receiving a regular salary do not count as in-kind contribution, but as a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cash contribution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, since staff costs are actually paid by the partner institution.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In the context of INTERREG IVC,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contributions in-kind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(e.g. through voluntary unpaid work)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are not eligible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expenditure.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1243080"/>
            <a:ext cx="7993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16e"/>
                </a:solidFill>
                <a:latin typeface="Arial"/>
              </a:rPr>
              <a:t>Calculation principles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based on the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actual salary rate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(employee’s gross salary + employer’s charges in accordance with national legislation) of the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individual employee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who is actually involved in the project activities. The calculation excludes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 any administration overheads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2. 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if the staff works less than 100% of their actual working time for the project, the calculation must be based on the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hourly rate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resulting from the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actual salary rate divided by the total number of hours worked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by the staff member for the partner institution (as registered in institution’s time recording system). This hourly rate is then </a:t>
            </a: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multiplied by the number of hours actually worked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on project activities. 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Supporting documents to be checked by FLC: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calculation of hourly rates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information on actual annual working hours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labour contracts, mission letter, job description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payroll documents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time records (time-sheets)</a:t>
            </a:r>
            <a:endParaRPr b="1" lang="en-US" sz="2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4360" y="1454400"/>
            <a:ext cx="7704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Useful references: </a:t>
            </a:r>
            <a:br>
              <a:rPr sz="2600"/>
            </a:b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</a:rPr>
              <a:t>INTERREG IVC Programme Manual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buClr>
                <a:srgbClr val="00316e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Section 2.4.2.1 “Staff costs”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buClr>
                <a:srgbClr val="00316e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Annex 6 control report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Checklist question n° 6 on staff costs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buClr>
                <a:srgbClr val="00316e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Annex 8a) “Fact Sheet on staff costs”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16e"/>
                </a:solidFill>
                <a:latin typeface="Arial"/>
              </a:rPr>
              <a:t>Example of a timesheet can be found on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interreg4c.eu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744280"/>
            <a:ext cx="8229600" cy="111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Martina</cp:lastModifiedBy>
  <cp:lastPrinted>2008-01-17T13:50:45Z</cp:lastPrinted>
  <dcterms:modified xsi:type="dcterms:W3CDTF">2009-06-09T08:05:12Z</dcterms:modified>
  <cp:revision>1165</cp:revision>
  <dc:subject/>
  <dc:title>PowerPoint Presentation INTERREG IVC</dc:title>
</cp:coreProperties>
</file>