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428-B7E0-4BB4-8BB9-F0581878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853-ECBA-47C9-BEB5-862D068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DED-E4F5-4E38-B732-25CAED81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06D-325F-4EBB-B877-67940148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340-1FB9-4C93-9598-035E162F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DA7-36F0-448C-8CC0-62873B4F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3C4-7318-4BC3-8D0C-8F976B2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150-AC11-4B99-AC4F-D1020F7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C12-48BB-4F81-8C03-18273837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E70-8A12-45C7-8864-A8A4CE67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730-69B7-4CAA-8F25-C1ADEAF1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EEB-6729-4B7F-81A9-459AC95A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5D4D-BAD6-4258-9A33-6EFBF5D273E3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3048120" y="6510240"/>
            <a:ext cx="53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Financial Seminar - Legal Framework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7" name="Picture 27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7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6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E66C-4DDB-4204-B3E2-A8FBC4D7F764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grpSp>
        <p:nvGrpSpPr>
          <p:cNvPr id="50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51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E9DB-06C9-4571-B823-29F6B5CED39A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3048120" y="6510240"/>
            <a:ext cx="53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Financial Seminar - Legal Framework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96" name="Picture 27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1"/>
          </p:nvPr>
        </p:nvSpPr>
        <p:spPr>
          <a:xfrm>
            <a:off x="6587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1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Times New Roman"/>
              </a:rPr>
              <a:t>Lille, 25 Nov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3598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1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Times New Roman"/>
              </a:rPr>
              <a:t>Financial Seminar - Leg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3"/>
          </p:nvPr>
        </p:nvSpPr>
        <p:spPr>
          <a:xfrm>
            <a:off x="4211640" y="6237000"/>
            <a:ext cx="792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1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FB47-F486-4CFA-A90F-2EF8D0D451C0}" type="slidenum">
              <a:rPr b="0" lang="en-GB" sz="24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terreg4c.eu/programme.html" TargetMode="External"/><Relationship Id="rId2" Type="http://schemas.openxmlformats.org/officeDocument/2006/relationships/hyperlink" Target="http://www.interreg4c.eu/projects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4240" y="2556720"/>
            <a:ext cx="7500960" cy="1189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16e"/>
                </a:solidFill>
                <a:latin typeface="Arial"/>
              </a:rPr>
              <a:t>INTERREG IVC Finance Seminar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1280" y="3643200"/>
            <a:ext cx="914400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16e"/>
                </a:solidFill>
                <a:latin typeface="Arial"/>
              </a:rPr>
              <a:t>Legal Framework of Financial Management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rwin Siweris, Deputy Programme Director, JTS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Brussels, 11 and 12 June 2009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00040" y="2039760"/>
            <a:ext cx="828684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3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articularly relevant for financial managers and controllers of approved projects: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Chapter 2.4 “Details on Budget and Eligibility”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Chapter 2.4.2 “The Budget Lines”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Chapter 4.3 “Reporting”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Chapter 4.3.4 “First Level Control”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Chapter 4.4 “Changes in Project Implementation”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Chapter 4.6 “Publicity and Information Requirements”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357280" y="96696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Programme Manual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00040" y="2189160"/>
            <a:ext cx="8286840" cy="29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3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articularly relevant for financial managers and controllers of approved projects: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Annex 5: standard control confirmations (LP, PP, shared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 costs)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Annex 6: control report template (incl. control checklist)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Annex 7: publicity requirement specifications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Annex 8: Fact sheets on financial matters (staff, 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administration, public procurement)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357280" y="103824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Programme Manual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500040" y="2189160"/>
            <a:ext cx="8286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3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Specific section on programme website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Bef>
                <a:spcPts val="3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description of control system by MS / NO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Bef>
                <a:spcPts val="3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any other country specific information (e.g. national guidance documents)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Bef>
                <a:spcPts val="3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143080" y="10382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Country specific requiremen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938240" y="1924200"/>
            <a:ext cx="51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6e"/>
                </a:solidFill>
                <a:latin typeface="Arial"/>
              </a:rPr>
              <a:t>All documents available for download here: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http://www.interreg4c.eu/programme.htm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http://www.interreg4c.eu/projects.htm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357280" y="571680"/>
            <a:ext cx="44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Download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3520" y="2744280"/>
            <a:ext cx="8229600" cy="111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403280" y="1628640"/>
            <a:ext cx="72360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225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Overview EC Regulations and Programme Document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225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Subsidy Contract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225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artnership Agreement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225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rogramme Manual incl. Control Guidance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225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Country specific requirements section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0" y="971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357200" y="5716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Overview EC Regulations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and Programme Documen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995640" y="1413000"/>
            <a:ext cx="1081080" cy="50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3714840" y="2138400"/>
            <a:ext cx="1509480" cy="50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995640" y="3068640"/>
            <a:ext cx="1081080" cy="6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286520" y="1484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3714840" y="2214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U-MS + NO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067280" y="3068640"/>
            <a:ext cx="9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MA/CA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JT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grpSp>
        <p:nvGrpSpPr>
          <p:cNvPr id="150" name="Group 41"/>
          <p:cNvGrpSpPr/>
          <p:nvPr/>
        </p:nvGrpSpPr>
        <p:grpSpPr>
          <a:xfrm>
            <a:off x="4211640" y="4437000"/>
            <a:ext cx="647640" cy="368280"/>
            <a:chOff x="4211640" y="4437000"/>
            <a:chExt cx="647640" cy="368280"/>
          </a:xfrm>
        </p:grpSpPr>
        <p:sp>
          <p:nvSpPr>
            <p:cNvPr id="151" name="Rectangle 6"/>
            <p:cNvSpPr/>
            <p:nvPr/>
          </p:nvSpPr>
          <p:spPr>
            <a:xfrm>
              <a:off x="4211640" y="4437000"/>
              <a:ext cx="647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152" name="Text Box 19"/>
            <p:cNvSpPr/>
            <p:nvPr/>
          </p:nvSpPr>
          <p:spPr>
            <a:xfrm>
              <a:off x="4286520" y="4437000"/>
              <a:ext cx="4597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16e"/>
                  </a:solidFill>
                  <a:latin typeface="Arial"/>
                </a:rPr>
                <a:t>LP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</p:grpSp>
      <p:grpSp>
        <p:nvGrpSpPr>
          <p:cNvPr id="153" name="Group 45"/>
          <p:cNvGrpSpPr/>
          <p:nvPr/>
        </p:nvGrpSpPr>
        <p:grpSpPr>
          <a:xfrm>
            <a:off x="2556000" y="5805360"/>
            <a:ext cx="3816360" cy="368280"/>
            <a:chOff x="2556000" y="5805360"/>
            <a:chExt cx="3816360" cy="368280"/>
          </a:xfrm>
        </p:grpSpPr>
        <p:sp>
          <p:nvSpPr>
            <p:cNvPr id="154" name="Rectangle 3"/>
            <p:cNvSpPr/>
            <p:nvPr/>
          </p:nvSpPr>
          <p:spPr>
            <a:xfrm>
              <a:off x="2556000" y="5805360"/>
              <a:ext cx="647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>
              <a:off x="4211640" y="5805360"/>
              <a:ext cx="647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5724360" y="5805360"/>
              <a:ext cx="64800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5797440" y="5805360"/>
              <a:ext cx="4856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16e"/>
                  </a:solidFill>
                  <a:latin typeface="Arial"/>
                </a:rPr>
                <a:t>PP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2628720" y="5805360"/>
              <a:ext cx="4856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16e"/>
                  </a:solidFill>
                  <a:latin typeface="Arial"/>
                </a:rPr>
                <a:t>PP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4286160" y="5805360"/>
              <a:ext cx="4856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16e"/>
                  </a:solidFill>
                  <a:latin typeface="Arial"/>
                </a:rPr>
                <a:t>PP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</p:grpSp>
      <p:sp>
        <p:nvSpPr>
          <p:cNvPr id="160" name="Text Box 22"/>
          <p:cNvSpPr/>
          <p:nvPr/>
        </p:nvSpPr>
        <p:spPr>
          <a:xfrm>
            <a:off x="104760" y="2133720"/>
            <a:ext cx="1274760" cy="3660120"/>
          </a:xfrm>
          <a:prstGeom prst="rect">
            <a:avLst/>
          </a:prstGeom>
          <a:solidFill>
            <a:srgbClr val="ff6600"/>
          </a:solidFill>
          <a:ln cap="rnd" w="25560">
            <a:solidFill>
              <a:srgbClr val="0031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Reg. (EC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1080/2006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1083/2006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1828/2006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>
            <a:off x="826920" y="1628640"/>
            <a:ext cx="3168720" cy="0"/>
          </a:xfrm>
          <a:prstGeom prst="line">
            <a:avLst/>
          </a:prstGeom>
          <a:ln w="1908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826920" y="1628640"/>
            <a:ext cx="0" cy="50508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3" name="Line 27"/>
          <p:cNvSpPr/>
          <p:nvPr/>
        </p:nvSpPr>
        <p:spPr>
          <a:xfrm>
            <a:off x="1403280" y="3357720"/>
            <a:ext cx="2592360" cy="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>
            <a:off x="1403280" y="4653000"/>
            <a:ext cx="2808360" cy="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8246880" y="3429000"/>
            <a:ext cx="511560" cy="368280"/>
          </a:xfrm>
          <a:prstGeom prst="rect">
            <a:avLst/>
          </a:prstGeom>
          <a:solidFill>
            <a:srgbClr val="ff6600"/>
          </a:solidFill>
          <a:ln cap="rnd" w="19080">
            <a:solidFill>
              <a:srgbClr val="0031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OP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7956720" y="3357720"/>
            <a:ext cx="0" cy="1295280"/>
          </a:xfrm>
          <a:prstGeom prst="line">
            <a:avLst/>
          </a:prstGeom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7" name="Line 34"/>
          <p:cNvSpPr/>
          <p:nvPr/>
        </p:nvSpPr>
        <p:spPr>
          <a:xfrm>
            <a:off x="7956720" y="3789360"/>
            <a:ext cx="287280" cy="0"/>
          </a:xfrm>
          <a:prstGeom prst="line">
            <a:avLst/>
          </a:prstGeom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 flipH="1">
            <a:off x="5076720" y="3357720"/>
            <a:ext cx="2880000" cy="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9" name="Line 37"/>
          <p:cNvSpPr/>
          <p:nvPr/>
        </p:nvSpPr>
        <p:spPr>
          <a:xfrm flipH="1">
            <a:off x="4859280" y="4653000"/>
            <a:ext cx="3097440" cy="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5070960" y="2637000"/>
            <a:ext cx="3926880" cy="368280"/>
          </a:xfrm>
          <a:prstGeom prst="rect">
            <a:avLst/>
          </a:prstGeom>
          <a:solidFill>
            <a:srgbClr val="ff6600"/>
          </a:solidFill>
          <a:ln cap="rnd" w="28440">
            <a:solidFill>
              <a:srgbClr val="0031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Agreement MS, NO, CH, MA and CA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1" name="Line 39"/>
          <p:cNvSpPr/>
          <p:nvPr/>
        </p:nvSpPr>
        <p:spPr>
          <a:xfrm>
            <a:off x="5076720" y="2492280"/>
            <a:ext cx="142920" cy="14472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2" name="Line 40"/>
          <p:cNvSpPr/>
          <p:nvPr/>
        </p:nvSpPr>
        <p:spPr>
          <a:xfrm flipH="1">
            <a:off x="5003640" y="2997360"/>
            <a:ext cx="216000" cy="21564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1496520" y="3860640"/>
            <a:ext cx="6355800" cy="368280"/>
          </a:xfrm>
          <a:prstGeom prst="rect">
            <a:avLst/>
          </a:prstGeom>
          <a:solidFill>
            <a:srgbClr val="ff6600"/>
          </a:solidFill>
          <a:ln cap="rnd" w="28440">
            <a:solidFill>
              <a:srgbClr val="0031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Subsidy Contract, Programme Manual incl. Control Guidance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4" name="Text Box 46"/>
          <p:cNvSpPr/>
          <p:nvPr/>
        </p:nvSpPr>
        <p:spPr>
          <a:xfrm>
            <a:off x="3141360" y="5013360"/>
            <a:ext cx="2526120" cy="368280"/>
          </a:xfrm>
          <a:prstGeom prst="rect">
            <a:avLst/>
          </a:prstGeom>
          <a:solidFill>
            <a:srgbClr val="ff6600"/>
          </a:solidFill>
          <a:ln cap="rnd" w="28440">
            <a:solidFill>
              <a:srgbClr val="0031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artnership Agreement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5" name="Line 47"/>
          <p:cNvSpPr/>
          <p:nvPr/>
        </p:nvSpPr>
        <p:spPr>
          <a:xfrm>
            <a:off x="4500720" y="4797360"/>
            <a:ext cx="0" cy="21600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6" name="Line 48"/>
          <p:cNvSpPr/>
          <p:nvPr/>
        </p:nvSpPr>
        <p:spPr>
          <a:xfrm>
            <a:off x="2843280" y="5589720"/>
            <a:ext cx="3241440" cy="0"/>
          </a:xfrm>
          <a:prstGeom prst="line">
            <a:avLst/>
          </a:prstGeom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7" name="Line 49"/>
          <p:cNvSpPr/>
          <p:nvPr/>
        </p:nvSpPr>
        <p:spPr>
          <a:xfrm>
            <a:off x="4500720" y="5373720"/>
            <a:ext cx="0" cy="216000"/>
          </a:xfrm>
          <a:prstGeom prst="line">
            <a:avLst/>
          </a:prstGeom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8" name="Line 50"/>
          <p:cNvSpPr/>
          <p:nvPr/>
        </p:nvSpPr>
        <p:spPr>
          <a:xfrm>
            <a:off x="2843280" y="5589720"/>
            <a:ext cx="0" cy="21564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9" name="Line 51"/>
          <p:cNvSpPr/>
          <p:nvPr/>
        </p:nvSpPr>
        <p:spPr>
          <a:xfrm>
            <a:off x="4500720" y="5589720"/>
            <a:ext cx="0" cy="21564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0" name="Line 52"/>
          <p:cNvSpPr/>
          <p:nvPr/>
        </p:nvSpPr>
        <p:spPr>
          <a:xfrm>
            <a:off x="6084720" y="5589720"/>
            <a:ext cx="0" cy="21564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1" name="Line 56"/>
          <p:cNvSpPr/>
          <p:nvPr/>
        </p:nvSpPr>
        <p:spPr>
          <a:xfrm>
            <a:off x="4500720" y="3716280"/>
            <a:ext cx="0" cy="14436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2" name="Line 57"/>
          <p:cNvSpPr/>
          <p:nvPr/>
        </p:nvSpPr>
        <p:spPr>
          <a:xfrm>
            <a:off x="4500720" y="4292640"/>
            <a:ext cx="0" cy="144360"/>
          </a:xfrm>
          <a:prstGeom prst="line">
            <a:avLst/>
          </a:prstGeom>
          <a:ln w="9360">
            <a:solidFill>
              <a:srgbClr val="0031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cxnSp>
        <p:nvCxnSpPr>
          <p:cNvPr id="183" name="Shape 56"/>
          <p:cNvCxnSpPr>
            <a:endCxn id="165" idx="0"/>
          </p:cNvCxnSpPr>
          <p:nvPr/>
        </p:nvCxnSpPr>
        <p:spPr>
          <a:xfrm>
            <a:off x="5224320" y="2390760"/>
            <a:ext cx="3278880" cy="1038600"/>
          </a:xfrm>
          <a:prstGeom prst="bentConnector2">
            <a:avLst/>
          </a:prstGeom>
          <a:ln w="9360">
            <a:solidFill>
              <a:srgbClr val="00316e"/>
            </a:solidFill>
            <a:miter/>
            <a:tailEnd len="med" type="arrow" w="med"/>
          </a:ln>
        </p:spPr>
      </p:cxnSp>
      <p:cxnSp>
        <p:nvCxnSpPr>
          <p:cNvPr id="184" name="Straight Arrow Connector 67"/>
          <p:cNvCxnSpPr/>
          <p:nvPr/>
        </p:nvCxnSpPr>
        <p:spPr>
          <a:xfrm flipV="1">
            <a:off x="1356840" y="2397960"/>
            <a:ext cx="2358360" cy="29160"/>
          </a:xfrm>
          <a:prstGeom prst="straightConnector1">
            <a:avLst/>
          </a:prstGeom>
          <a:ln w="9360">
            <a:solidFill>
              <a:srgbClr val="00316e"/>
            </a:solidFill>
            <a:miter/>
            <a:tailEnd len="med" type="arrow" w="med"/>
          </a:ln>
        </p:spPr>
      </p:cxn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00040" y="1577880"/>
            <a:ext cx="813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083/2006 General Regulation for Structural Fund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15: additionality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69: information and publicit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90: availability of documents (‘archiving period’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s 93 to 97: automatic decommitmen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080/2006 Structural Funds Regulation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7 + 13: eligibility of expenditure (eg. irrecoverable VAT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16: control system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17: financial management (eg. treatment of irregularities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20: responsibility of lead beneficiar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21: special conditions governing the location of operations (10% rule for implementing parts of an operation outside the EU)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785960" y="66996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Overview EC Regulations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and Programme Documen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68360" y="2289240"/>
            <a:ext cx="813600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828/2006 Implementing Regulation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 8: responsibilities of beneficiaries relating to information and publicity measures for the public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15: audit trai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 16: audits of operations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s 48 to 53: eligibility of expenditure (eg. overheads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143080" y="8841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Overview EC Regulations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and Programme Documen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95280" y="1866960"/>
            <a:ext cx="849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OP 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Main programme document defining the strategy, topics, types of operations, eligible area, target groups, management structure and financial resourc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Agreement between EU-Member States, Norway, Switzerland,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Managing Authority and Certifying Authorit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llocation of tasks, responsibilities and liabilities between the EU Member States, Norway, Switzerland and the Managing Authority and the Certifying Authority for the implementation of the programme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0" y="88416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Overview EC Regulations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and Programme Documen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50880" y="1285920"/>
            <a:ext cx="8136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Between the Managing Authority (MA) and the Lead Partner (LP) 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„Lead Partner Principle“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Determines the rights and responsibilities of the Lead Partner and the Managing Authorit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Detail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1 Award of subsid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78000" indent="-36360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Amount awarded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2 (1): eligibility period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2 (2): flexibility rul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rticle 3 (6): payment forecas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78000" indent="-36360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316e"/>
                </a:solidFill>
                <a:latin typeface="Arial"/>
                <a:ea typeface="Arial"/>
              </a:rPr>
              <a:t>Payments not requested in time and in full as indicated in the payment forecast above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  <a:ea typeface="Arial"/>
              </a:rPr>
              <a:t>may be lost ".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Article 7: publicity rul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Article 9: audit right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2357280" y="7570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Subsidy Contract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68360" y="1176480"/>
            <a:ext cx="8136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Principal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1250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Between the LP and the project partner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1250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Determines the rights and responsibilities of the LP and the project partner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1250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Obligation to sign a partnership agreemen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820800" indent="-363600">
              <a:lnSpc>
                <a:spcPct val="100000"/>
              </a:lnSpc>
              <a:spcAft>
                <a:spcPts val="1250"/>
              </a:spcAft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Regulation (EC) No. 1080/2006, Article 20: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he lead beneficiary shall lay down arrangements for its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relations with the beneficiaries participating in the operation in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n agreement […]”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1250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Model agreement proposes provisions needed for the most important subjects concerning the implementation of a projec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spcAft>
                <a:spcPts val="1250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Has to be adjusted to the individual needs, the legal and administrative framework of the partner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357280" y="64296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Partnership Agreement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468360" y="2063880"/>
            <a:ext cx="8136000" cy="29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rovides further details for planning and implementing an INTERREG IVC project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rovides also information and guidelines for controllers, Lead Partners and project partners on the requirements and on the scope of the financial reporting and control work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31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357280" y="96696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Programme Manual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l Frame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20:54Z</dcterms:created>
  <dc:creator>ersiweris</dc:creator>
  <dc:description/>
  <dc:language>en-US</dc:language>
  <cp:lastModifiedBy>Petra</cp:lastModifiedBy>
  <dcterms:modified xsi:type="dcterms:W3CDTF">2009-06-15T08:01:57Z</dcterms:modified>
  <cp:revision>71</cp:revision>
  <dc:subject/>
  <dc:title>Slide 1</dc:title>
</cp:coreProperties>
</file>